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3.jpeg" ContentType="image/jpeg"/>
  <Override PartName="/ppt/media/image1.jpeg" ContentType="image/jpeg"/>
  <Override PartName="/ppt/media/image4.gif" ContentType="image/gif"/>
  <Override PartName="/ppt/media/image27.gif" ContentType="image/gif"/>
  <Override PartName="/ppt/media/image8.png" ContentType="image/png"/>
  <Override PartName="/ppt/media/image6.gif" ContentType="image/gif"/>
  <Override PartName="/ppt/media/chimes.wav" ContentType="audio/x-wav"/>
  <Override PartName="/ppt/media/image13.gif" ContentType="image/gif"/>
  <Override PartName="/ppt/media/image25.gif" ContentType="image/gif"/>
  <Override PartName="/ppt/media/image2.gif" ContentType="image/gif"/>
  <Override PartName="/ppt/media/image5.gif" ContentType="image/gif"/>
  <Override PartName="/ppt/media/image28.png" ContentType="image/png"/>
  <Override PartName="/ppt/media/image3.jpeg" ContentType="image/jpeg"/>
  <Override PartName="/ppt/media/image12.gif" ContentType="image/gif"/>
  <Override PartName="/ppt/media/image7.gif" ContentType="image/gif"/>
  <Override PartName="/ppt/media/John%20Lennon%20-%20So%20This%20Is%20Christmas(MAIL).wav" ContentType="audio/x-wav"/>
  <Override PartName="/ppt/media/image16.gif" ContentType="image/gif"/>
  <Override PartName="/ppt/media/image9.jpeg" ContentType="image/jpeg"/>
  <Override PartName="/ppt/media/image11.png" ContentType="image/png"/>
  <Override PartName="/ppt/media/image14.gif" ContentType="image/gif"/>
  <Override PartName="/ppt/media/applause.wav" ContentType="audio/x-wav"/>
  <Override PartName="/ppt/media/image15.gif" ContentType="image/gif"/>
  <Override PartName="/ppt/media/image20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10.jpeg" ContentType="image/jpeg"/>
  <Override PartName="/ppt/media/image21.gif" ContentType="image/gif"/>
  <Override PartName="/ppt/media/image24.png" ContentType="image/png"/>
  <Override PartName="/ppt/media/image22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32F-32C6-473C-85B0-0A2D8F99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3BC-E8A4-48A0-8584-DEE9C87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228-B23D-4CE1-BEC8-B5FCFAD5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401-AEAB-4358-B87D-2CEA142D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FB2B-79E5-4598-BA92-D8048632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871E-3817-4B82-AB8B-B7F3F03C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E3D9-9756-4D64-8DB9-01881613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8DC5-4B52-45E3-B6BF-7F9EDFD6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28B1-B37C-420A-B969-72B5438C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0A1B-3127-4C86-B86A-D7343D9D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C03E-998E-4C2C-AC00-74069FF2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56E-78D3-4DD4-BE06-FB2065FA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42A5-ED4F-42A9-B12F-B7A8B746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68B8-7602-428D-970D-0DA1B7EA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2322-1566-4A9C-8B9E-4C69F7F4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6875-5C1C-4123-B635-9F8CC94A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5D78-DC58-4B67-82B5-ED0CE5B8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53F-FB1A-4FB6-B58C-0381F9DE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036-C3C0-4086-B3F3-0CDD32FB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9B1-A464-44DC-914E-7F25334A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C65-36D5-48DE-9649-08A84E2D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943-FC92-44EF-8097-F4784C87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CA2-210B-40E6-8D00-3894BA8C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2C1-3EC1-480E-A705-AAED0C69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B8B1-D839-4CB2-959A-2D1C8E7FAD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0A06-C52F-483F-9C7C-46DE5B43E5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audio" Target="../media/John%20Lennon%20-%20So%20This%20Is%20Christmas(MAIL)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image" Target="../media/image2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7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9.xm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7.xml"/><Relationship Id="rId3" Type="http://schemas.openxmlformats.org/officeDocument/2006/relationships/image" Target="../media/image17.gif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audio" Target="../media/John%20Lennon%20-%20So%20This%20Is%20Christmas(MAIL).wav"/><Relationship Id="rId7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audio" Target="../media/John%20Lennon%20-%20So%20This%20Is%20Christmas(MAIL).wav"/><Relationship Id="rId5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7.xml"/><Relationship Id="rId3" Type="http://schemas.openxmlformats.org/officeDocument/2006/relationships/slide" Target="slide66.xml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19.xml"/><Relationship Id="rId5" Type="http://schemas.openxmlformats.org/officeDocument/2006/relationships/slide" Target="slide23.xml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audio" Target="../media/John%20Lennon%20-%20So%20This%20Is%20Christmas(MAIL).wav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43680" y="0"/>
            <a:ext cx="4000320" cy="4000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352680" y="3352680"/>
            <a:ext cx="5329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33526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DINEA EFECTU</a:t>
            </a:r>
            <a:r>
              <a:rPr b="1" lang="ro-RO" sz="3900" spc="-1" strike="noStrike">
                <a:solidFill>
                  <a:srgbClr val="330066"/>
                </a:solidFill>
                <a:latin typeface="Arial"/>
              </a:rPr>
              <a:t>ĂRII OPERAŢIIL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5143680" y="259092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3657600" y="285768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533520" y="304920"/>
            <a:ext cx="8305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Suport didactic pentru o lecţie de matematică primit în d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de la Moş Crăci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772400" y="624852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2" h="21600">
                <a:moveTo>
                  <a:pt x="18179" y="3794"/>
                </a:moveTo>
                <a:lnTo>
                  <a:pt x="32192" y="10800"/>
                </a:lnTo>
                <a:lnTo>
                  <a:pt x="18179" y="17806"/>
                </a:lnTo>
                <a:close/>
              </a:path>
            </a:pathLst>
          </a:custGeom>
          <a:gradFill rotWithShape="0">
            <a:gsLst>
              <a:gs pos="0">
                <a:srgbClr val="7bbcf1"/>
              </a:gs>
              <a:gs pos="100000">
                <a:srgbClr val="abe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0066"/>
                </a:solidFill>
                <a:latin typeface="Arial"/>
              </a:rPr>
              <a:t>Star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"/>
                                  </p:iterate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a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971800"/>
            <a:ext cx="3504960" cy="49068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24 548 + 8 657 – 14 364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286000" y="4876920"/>
            <a:ext cx="8571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2971800"/>
            <a:ext cx="3504960" cy="91440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24 548 + 8 657 – 14 364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= 33 205 – 14 364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240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62120" y="4419720"/>
            <a:ext cx="76176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971800"/>
            <a:ext cx="3504960" cy="129528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24 548 + 8 657 – 14 364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= 33 205 – 14 364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o-RO" sz="2100" spc="-1" strike="noStrike">
                <a:solidFill>
                  <a:srgbClr val="ff0000"/>
                </a:solidFill>
                <a:latin typeface="Arial"/>
              </a:rPr>
              <a:t>18 84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1066680" y="4876920"/>
            <a:ext cx="2590920" cy="1371600"/>
          </a:xfrm>
          <a:custGeom>
            <a:avLst/>
            <a:gdLst>
              <a:gd name="textAreaLeft" fmla="*/ 88920 w 2590920"/>
              <a:gd name="textAreaRight" fmla="*/ 2502000 w 25909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7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7" y="20200"/>
                </a:lnTo>
                <a:lnTo>
                  <a:pt x="39397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7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97" h="21600">
                <a:moveTo>
                  <a:pt x="13392" y="7493"/>
                </a:moveTo>
                <a:lnTo>
                  <a:pt x="16900" y="7493"/>
                </a:lnTo>
                <a:lnTo>
                  <a:pt x="16900" y="12828"/>
                </a:lnTo>
                <a:cubicBezTo>
                  <a:pt x="16900" y="13751"/>
                  <a:pt x="17700" y="14482"/>
                  <a:pt x="18736" y="14482"/>
                </a:cubicBezTo>
                <a:lnTo>
                  <a:pt x="20398" y="14482"/>
                </a:lnTo>
                <a:cubicBezTo>
                  <a:pt x="21434" y="14482"/>
                  <a:pt x="22235" y="13751"/>
                  <a:pt x="22235" y="12828"/>
                </a:cubicBezTo>
                <a:lnTo>
                  <a:pt x="22235" y="7493"/>
                </a:lnTo>
                <a:lnTo>
                  <a:pt x="20398" y="7493"/>
                </a:lnTo>
                <a:lnTo>
                  <a:pt x="23906" y="3985"/>
                </a:lnTo>
                <a:lnTo>
                  <a:pt x="27579" y="7493"/>
                </a:lnTo>
                <a:lnTo>
                  <a:pt x="25742" y="7493"/>
                </a:lnTo>
                <a:lnTo>
                  <a:pt x="25742" y="12828"/>
                </a:lnTo>
                <a:cubicBezTo>
                  <a:pt x="25742" y="15596"/>
                  <a:pt x="23166" y="18155"/>
                  <a:pt x="20398" y="18155"/>
                </a:cubicBezTo>
                <a:lnTo>
                  <a:pt x="18736" y="18155"/>
                </a:lnTo>
                <a:cubicBezTo>
                  <a:pt x="15968" y="18155"/>
                  <a:pt x="13392" y="15596"/>
                  <a:pt x="13392" y="12828"/>
                </a:cubicBezTo>
                <a:close/>
              </a:path>
            </a:pathLst>
          </a:custGeom>
          <a:solidFill>
            <a:srgbClr val="54a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b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 rot="493200">
            <a:off x="4495320" y="2742840"/>
            <a:ext cx="261936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277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2971800"/>
            <a:ext cx="3886200" cy="49068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804 507 – 362 419 + 58 555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 rot="493200">
            <a:off x="4341600" y="2904840"/>
            <a:ext cx="284796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296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2971800"/>
            <a:ext cx="3886200" cy="83808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804 507 – 362 419 + 58 555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442 088 + 58 555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62120" y="4419720"/>
            <a:ext cx="76176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2971800"/>
            <a:ext cx="3886200" cy="121932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804 507 – 362 419 + 58 555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442 088 + 58 555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o-RO" sz="2100" spc="-1" strike="noStrike">
                <a:solidFill>
                  <a:srgbClr val="ff0000"/>
                </a:solidFill>
                <a:latin typeface="Arial"/>
              </a:rPr>
              <a:t>500 64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1066680" y="4876920"/>
            <a:ext cx="2590920" cy="1371600"/>
          </a:xfrm>
          <a:custGeom>
            <a:avLst/>
            <a:gdLst>
              <a:gd name="textAreaLeft" fmla="*/ 88920 w 2590920"/>
              <a:gd name="textAreaRight" fmla="*/ 2502000 w 25909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7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7" y="20200"/>
                </a:lnTo>
                <a:lnTo>
                  <a:pt x="39397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7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97" h="21600">
                <a:moveTo>
                  <a:pt x="13392" y="7493"/>
                </a:moveTo>
                <a:lnTo>
                  <a:pt x="16900" y="7493"/>
                </a:lnTo>
                <a:lnTo>
                  <a:pt x="16900" y="12828"/>
                </a:lnTo>
                <a:cubicBezTo>
                  <a:pt x="16900" y="13751"/>
                  <a:pt x="17700" y="14482"/>
                  <a:pt x="18736" y="14482"/>
                </a:cubicBezTo>
                <a:lnTo>
                  <a:pt x="20398" y="14482"/>
                </a:lnTo>
                <a:cubicBezTo>
                  <a:pt x="21434" y="14482"/>
                  <a:pt x="22235" y="13751"/>
                  <a:pt x="22235" y="12828"/>
                </a:cubicBezTo>
                <a:lnTo>
                  <a:pt x="22235" y="7493"/>
                </a:lnTo>
                <a:lnTo>
                  <a:pt x="20398" y="7493"/>
                </a:lnTo>
                <a:lnTo>
                  <a:pt x="23906" y="3985"/>
                </a:lnTo>
                <a:lnTo>
                  <a:pt x="27579" y="7493"/>
                </a:lnTo>
                <a:lnTo>
                  <a:pt x="25742" y="7493"/>
                </a:lnTo>
                <a:lnTo>
                  <a:pt x="25742" y="12828"/>
                </a:lnTo>
                <a:cubicBezTo>
                  <a:pt x="25742" y="15596"/>
                  <a:pt x="23166" y="18155"/>
                  <a:pt x="20398" y="18155"/>
                </a:cubicBezTo>
                <a:lnTo>
                  <a:pt x="18736" y="18155"/>
                </a:lnTo>
                <a:cubicBezTo>
                  <a:pt x="15968" y="18155"/>
                  <a:pt x="13392" y="15596"/>
                  <a:pt x="13392" y="12828"/>
                </a:cubicBezTo>
                <a:close/>
              </a:path>
            </a:pathLst>
          </a:custGeom>
          <a:solidFill>
            <a:srgbClr val="54a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c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3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334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3048120"/>
            <a:ext cx="3276360" cy="49032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2 475 + 1 525 – 3 642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286000" y="4876920"/>
            <a:ext cx="8571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353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3048120"/>
            <a:ext cx="3276360" cy="91440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2 475 + 1 525 – 3 642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4 000 - 3 642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286000" y="4876920"/>
            <a:ext cx="8571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3048120"/>
            <a:ext cx="3276360" cy="121896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2 475 + 1 525 – 3 642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4 000 - 3 642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o-RO" sz="2100" spc="-1" strike="noStrike">
                <a:solidFill>
                  <a:srgbClr val="ff0000"/>
                </a:solidFill>
                <a:latin typeface="Arial"/>
              </a:rPr>
              <a:t>35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" action="ppaction://hlinksldjump"/>
          </p:cNvPr>
          <p:cNvSpPr/>
          <p:nvPr/>
        </p:nvSpPr>
        <p:spPr>
          <a:xfrm>
            <a:off x="1066680" y="4876920"/>
            <a:ext cx="2590920" cy="1371600"/>
          </a:xfrm>
          <a:custGeom>
            <a:avLst/>
            <a:gdLst>
              <a:gd name="textAreaLeft" fmla="*/ 88920 w 2590920"/>
              <a:gd name="textAreaRight" fmla="*/ 2502000 w 25909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7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7" y="20200"/>
                </a:lnTo>
                <a:lnTo>
                  <a:pt x="39397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7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97" h="21600">
                <a:moveTo>
                  <a:pt x="13392" y="7493"/>
                </a:moveTo>
                <a:lnTo>
                  <a:pt x="16900" y="7493"/>
                </a:lnTo>
                <a:lnTo>
                  <a:pt x="16900" y="12828"/>
                </a:lnTo>
                <a:cubicBezTo>
                  <a:pt x="16900" y="13751"/>
                  <a:pt x="17700" y="14482"/>
                  <a:pt x="18736" y="14482"/>
                </a:cubicBezTo>
                <a:lnTo>
                  <a:pt x="20398" y="14482"/>
                </a:lnTo>
                <a:cubicBezTo>
                  <a:pt x="21434" y="14482"/>
                  <a:pt x="22235" y="13751"/>
                  <a:pt x="22235" y="12828"/>
                </a:cubicBezTo>
                <a:lnTo>
                  <a:pt x="22235" y="7493"/>
                </a:lnTo>
                <a:lnTo>
                  <a:pt x="20398" y="7493"/>
                </a:lnTo>
                <a:lnTo>
                  <a:pt x="23906" y="3985"/>
                </a:lnTo>
                <a:lnTo>
                  <a:pt x="27579" y="7493"/>
                </a:lnTo>
                <a:lnTo>
                  <a:pt x="25742" y="7493"/>
                </a:lnTo>
                <a:lnTo>
                  <a:pt x="25742" y="12828"/>
                </a:lnTo>
                <a:cubicBezTo>
                  <a:pt x="25742" y="15596"/>
                  <a:pt x="23166" y="18155"/>
                  <a:pt x="20398" y="18155"/>
                </a:cubicBezTo>
                <a:lnTo>
                  <a:pt x="18736" y="18155"/>
                </a:lnTo>
                <a:cubicBezTo>
                  <a:pt x="15968" y="18155"/>
                  <a:pt x="13392" y="15596"/>
                  <a:pt x="13392" y="12828"/>
                </a:cubicBezTo>
                <a:close/>
              </a:path>
            </a:pathLst>
          </a:custGeom>
          <a:solidFill>
            <a:srgbClr val="54a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d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391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0880" y="3048120"/>
            <a:ext cx="3276720" cy="49032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966 : 7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523880" y="457200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8120" y="3429000"/>
            <a:ext cx="1942920" cy="140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609480" y="5181480"/>
            <a:ext cx="3048120" cy="914400"/>
          </a:xfrm>
          <a:custGeom>
            <a:avLst/>
            <a:gdLst>
              <a:gd name="textAreaLeft" fmla="*/ 59040 w 3048120"/>
              <a:gd name="textAreaRight" fmla="*/ 2989080 w 3048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1983" h="21600">
                <a:moveTo>
                  <a:pt x="0" y="0"/>
                </a:moveTo>
                <a:lnTo>
                  <a:pt x="71983" y="0"/>
                </a:lnTo>
                <a:lnTo>
                  <a:pt x="71983" y="21600"/>
                </a:lnTo>
                <a:lnTo>
                  <a:pt x="0" y="21600"/>
                </a:lnTo>
                <a:close/>
              </a:path>
              <a:path fill="lightenLess" w="71983" h="21600">
                <a:moveTo>
                  <a:pt x="0" y="0"/>
                </a:moveTo>
                <a:lnTo>
                  <a:pt x="71983" y="0"/>
                </a:lnTo>
                <a:lnTo>
                  <a:pt x="70583" y="1400"/>
                </a:lnTo>
                <a:lnTo>
                  <a:pt x="1400" y="1400"/>
                </a:lnTo>
                <a:close/>
              </a:path>
              <a:path fill="darken" w="71983" h="21600">
                <a:moveTo>
                  <a:pt x="71983" y="0"/>
                </a:moveTo>
                <a:lnTo>
                  <a:pt x="71983" y="21600"/>
                </a:lnTo>
                <a:lnTo>
                  <a:pt x="70583" y="20200"/>
                </a:lnTo>
                <a:lnTo>
                  <a:pt x="70583" y="1400"/>
                </a:lnTo>
                <a:close/>
              </a:path>
              <a:path fill="darkenLess" w="71983" h="21600">
                <a:moveTo>
                  <a:pt x="71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3" y="20200"/>
                </a:lnTo>
                <a:close/>
              </a:path>
              <a:path fill="lighten" w="71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Explicaţ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3962520" y="5181480"/>
            <a:ext cx="3047760" cy="914400"/>
          </a:xfrm>
          <a:custGeom>
            <a:avLst/>
            <a:gdLst>
              <a:gd name="textAreaLeft" fmla="*/ 59040 w 3047760"/>
              <a:gd name="textAreaRight" fmla="*/ 2988720 w 30477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5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5" y="20200"/>
                </a:lnTo>
                <a:lnTo>
                  <a:pt x="70575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5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Exerciţ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5715000" cy="2884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28600" y="1600200"/>
            <a:ext cx="5715000" cy="1523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124080" y="1981080"/>
            <a:ext cx="571500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876920" y="22860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457200" y="8839080"/>
            <a:ext cx="1981080" cy="3048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5562720" y="8610480"/>
            <a:ext cx="1736640" cy="2721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4876920" y="22860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457200" y="228600"/>
            <a:ext cx="8305920" cy="331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1"/>
          <a:stretch/>
        </p:blipFill>
        <p:spPr>
          <a:xfrm>
            <a:off x="609480" y="2819520"/>
            <a:ext cx="6553440" cy="331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2"/>
          <a:stretch/>
        </p:blipFill>
        <p:spPr>
          <a:xfrm>
            <a:off x="7543800" y="91440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3"/>
          <a:stretch/>
        </p:blipFill>
        <p:spPr>
          <a:xfrm>
            <a:off x="228600" y="91440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4"/>
          <a:stretch/>
        </p:blipFill>
        <p:spPr>
          <a:xfrm>
            <a:off x="4343400" y="91440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5"/>
          <a:stretch/>
        </p:blipFill>
        <p:spPr>
          <a:xfrm>
            <a:off x="4495680" y="106668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6"/>
          <a:stretch/>
        </p:blipFill>
        <p:spPr>
          <a:xfrm>
            <a:off x="4648320" y="1219320"/>
            <a:ext cx="400032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d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9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410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3048120"/>
            <a:ext cx="3276720" cy="99036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966 : 7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138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523880" y="457200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d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429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3048120"/>
            <a:ext cx="3276720" cy="129528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966 : 7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138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414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523880" y="457200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d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880" y="3048120"/>
            <a:ext cx="3276720" cy="160020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966 : 7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138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414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o-RO" sz="2100" spc="-1" strike="noStrike">
                <a:solidFill>
                  <a:srgbClr val="ff0000"/>
                </a:solidFill>
                <a:latin typeface="Arial"/>
              </a:rPr>
              <a:t>4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1066680" y="4876920"/>
            <a:ext cx="2590920" cy="1371600"/>
          </a:xfrm>
          <a:custGeom>
            <a:avLst/>
            <a:gdLst>
              <a:gd name="textAreaLeft" fmla="*/ 88920 w 2590920"/>
              <a:gd name="textAreaRight" fmla="*/ 2502000 w 25909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7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7" y="20200"/>
                </a:lnTo>
                <a:lnTo>
                  <a:pt x="39397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7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97" h="21600">
                <a:moveTo>
                  <a:pt x="13392" y="7493"/>
                </a:moveTo>
                <a:lnTo>
                  <a:pt x="16900" y="7493"/>
                </a:lnTo>
                <a:lnTo>
                  <a:pt x="16900" y="12828"/>
                </a:lnTo>
                <a:cubicBezTo>
                  <a:pt x="16900" y="13751"/>
                  <a:pt x="17700" y="14482"/>
                  <a:pt x="18736" y="14482"/>
                </a:cubicBezTo>
                <a:lnTo>
                  <a:pt x="20398" y="14482"/>
                </a:lnTo>
                <a:cubicBezTo>
                  <a:pt x="21434" y="14482"/>
                  <a:pt x="22235" y="13751"/>
                  <a:pt x="22235" y="12828"/>
                </a:cubicBezTo>
                <a:lnTo>
                  <a:pt x="22235" y="7493"/>
                </a:lnTo>
                <a:lnTo>
                  <a:pt x="20398" y="7493"/>
                </a:lnTo>
                <a:lnTo>
                  <a:pt x="23906" y="3985"/>
                </a:lnTo>
                <a:lnTo>
                  <a:pt x="27579" y="7493"/>
                </a:lnTo>
                <a:lnTo>
                  <a:pt x="25742" y="7493"/>
                </a:lnTo>
                <a:lnTo>
                  <a:pt x="25742" y="12828"/>
                </a:lnTo>
                <a:cubicBezTo>
                  <a:pt x="25742" y="15596"/>
                  <a:pt x="23166" y="18155"/>
                  <a:pt x="20398" y="18155"/>
                </a:cubicBezTo>
                <a:lnTo>
                  <a:pt x="18736" y="18155"/>
                </a:lnTo>
                <a:cubicBezTo>
                  <a:pt x="15968" y="18155"/>
                  <a:pt x="13392" y="15596"/>
                  <a:pt x="13392" y="12828"/>
                </a:cubicBezTo>
                <a:close/>
              </a:path>
            </a:pathLst>
          </a:custGeom>
          <a:solidFill>
            <a:srgbClr val="54a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e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66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467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3048120"/>
            <a:ext cx="3276360" cy="49032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435 x 6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676520" y="4724280"/>
            <a:ext cx="85716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e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5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486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4920" y="3048120"/>
            <a:ext cx="3276360" cy="83808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435 x 6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2610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676520" y="4724280"/>
            <a:ext cx="85716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e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4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505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3048120"/>
            <a:ext cx="3276360" cy="114300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435 x 6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2610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522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676520" y="4724280"/>
            <a:ext cx="85716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e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2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3048120"/>
            <a:ext cx="3276360" cy="160020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435 x 6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2610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522 : 9 =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o-RO" sz="2100" spc="-1" strike="noStrike">
                <a:solidFill>
                  <a:srgbClr val="ff0000"/>
                </a:solidFill>
                <a:latin typeface="Arial"/>
              </a:rPr>
              <a:t>5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9" name="">
            <a:hlinkClick r:id="rId2" action="ppaction://hlinksldjump"/>
          </p:cNvPr>
          <p:cNvSpPr/>
          <p:nvPr/>
        </p:nvSpPr>
        <p:spPr>
          <a:xfrm>
            <a:off x="1066680" y="4876920"/>
            <a:ext cx="2590920" cy="1371600"/>
          </a:xfrm>
          <a:custGeom>
            <a:avLst/>
            <a:gdLst>
              <a:gd name="textAreaLeft" fmla="*/ 88920 w 2590920"/>
              <a:gd name="textAreaRight" fmla="*/ 2502000 w 25909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7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7" y="20200"/>
                </a:lnTo>
                <a:lnTo>
                  <a:pt x="39397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7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97" h="21600">
                <a:moveTo>
                  <a:pt x="13392" y="7493"/>
                </a:moveTo>
                <a:lnTo>
                  <a:pt x="16900" y="7493"/>
                </a:lnTo>
                <a:lnTo>
                  <a:pt x="16900" y="12828"/>
                </a:lnTo>
                <a:cubicBezTo>
                  <a:pt x="16900" y="13751"/>
                  <a:pt x="17700" y="14482"/>
                  <a:pt x="18736" y="14482"/>
                </a:cubicBezTo>
                <a:lnTo>
                  <a:pt x="20398" y="14482"/>
                </a:lnTo>
                <a:cubicBezTo>
                  <a:pt x="21434" y="14482"/>
                  <a:pt x="22235" y="13751"/>
                  <a:pt x="22235" y="12828"/>
                </a:cubicBezTo>
                <a:lnTo>
                  <a:pt x="22235" y="7493"/>
                </a:lnTo>
                <a:lnTo>
                  <a:pt x="20398" y="7493"/>
                </a:lnTo>
                <a:lnTo>
                  <a:pt x="23906" y="3985"/>
                </a:lnTo>
                <a:lnTo>
                  <a:pt x="27579" y="7493"/>
                </a:lnTo>
                <a:lnTo>
                  <a:pt x="25742" y="7493"/>
                </a:lnTo>
                <a:lnTo>
                  <a:pt x="25742" y="12828"/>
                </a:lnTo>
                <a:cubicBezTo>
                  <a:pt x="25742" y="15596"/>
                  <a:pt x="23166" y="18155"/>
                  <a:pt x="20398" y="18155"/>
                </a:cubicBezTo>
                <a:lnTo>
                  <a:pt x="18736" y="18155"/>
                </a:lnTo>
                <a:cubicBezTo>
                  <a:pt x="15968" y="18155"/>
                  <a:pt x="13392" y="15596"/>
                  <a:pt x="13392" y="12828"/>
                </a:cubicBezTo>
                <a:close/>
              </a:path>
            </a:pathLst>
          </a:custGeom>
          <a:solidFill>
            <a:srgbClr val="54a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527b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2" name="">
            <a:hlinkClick r:id="rId1" action="ppaction://hlinksldjump"/>
          </p:cNvPr>
          <p:cNvSpPr/>
          <p:nvPr/>
        </p:nvSpPr>
        <p:spPr>
          <a:xfrm>
            <a:off x="304920" y="2971800"/>
            <a:ext cx="6248160" cy="762120"/>
          </a:xfrm>
          <a:custGeom>
            <a:avLst/>
            <a:gdLst>
              <a:gd name="textAreaLeft" fmla="*/ 49320 w 6248160"/>
              <a:gd name="textAreaRight" fmla="*/ 6198840 w 62481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77012" h="21600">
                <a:moveTo>
                  <a:pt x="0" y="0"/>
                </a:moveTo>
                <a:lnTo>
                  <a:pt x="177012" y="0"/>
                </a:lnTo>
                <a:lnTo>
                  <a:pt x="177012" y="21600"/>
                </a:lnTo>
                <a:lnTo>
                  <a:pt x="0" y="21600"/>
                </a:lnTo>
                <a:close/>
              </a:path>
              <a:path fill="lightenLess" w="177012" h="21600">
                <a:moveTo>
                  <a:pt x="0" y="0"/>
                </a:moveTo>
                <a:lnTo>
                  <a:pt x="177012" y="0"/>
                </a:lnTo>
                <a:lnTo>
                  <a:pt x="175612" y="1400"/>
                </a:lnTo>
                <a:lnTo>
                  <a:pt x="1400" y="1400"/>
                </a:lnTo>
                <a:close/>
              </a:path>
              <a:path fill="darken" w="177012" h="21600">
                <a:moveTo>
                  <a:pt x="177012" y="0"/>
                </a:moveTo>
                <a:lnTo>
                  <a:pt x="177012" y="21600"/>
                </a:lnTo>
                <a:lnTo>
                  <a:pt x="175612" y="20200"/>
                </a:lnTo>
                <a:lnTo>
                  <a:pt x="175612" y="1400"/>
                </a:lnTo>
                <a:close/>
              </a:path>
              <a:path fill="darkenLess" w="177012" h="21600">
                <a:moveTo>
                  <a:pt x="177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612" y="20200"/>
                </a:lnTo>
                <a:close/>
              </a:path>
              <a:path fill="lighten" w="177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2 : 8 =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905120" y="1981080"/>
            <a:ext cx="4257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b7dbff"/>
                </a:solidFill>
                <a:latin typeface="Arial Black"/>
              </a:rPr>
              <a:t>Alege exerciţiul !</a:t>
            </a:r>
            <a:endParaRPr b="0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b7dbff"/>
              </a:solidFill>
              <a:latin typeface="Arial Black"/>
              <a:ea typeface="Arial Black"/>
            </a:endParaRPr>
          </a:p>
        </p:txBody>
      </p:sp>
      <p:sp>
        <p:nvSpPr>
          <p:cNvPr id="544" name="">
            <a:hlinkClick r:id="rId2" action="ppaction://hlinksldjump"/>
          </p:cNvPr>
          <p:cNvSpPr/>
          <p:nvPr/>
        </p:nvSpPr>
        <p:spPr>
          <a:xfrm>
            <a:off x="304920" y="3962520"/>
            <a:ext cx="6248160" cy="761760"/>
          </a:xfrm>
          <a:custGeom>
            <a:avLst/>
            <a:gdLst>
              <a:gd name="textAreaLeft" fmla="*/ 49320 w 6248160"/>
              <a:gd name="textAreaRight" fmla="*/ 6198840 w 62481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77096" h="21600">
                <a:moveTo>
                  <a:pt x="0" y="0"/>
                </a:moveTo>
                <a:lnTo>
                  <a:pt x="177096" y="0"/>
                </a:lnTo>
                <a:lnTo>
                  <a:pt x="177096" y="21600"/>
                </a:lnTo>
                <a:lnTo>
                  <a:pt x="0" y="21600"/>
                </a:lnTo>
                <a:close/>
              </a:path>
              <a:path fill="lightenLess" w="177096" h="21600">
                <a:moveTo>
                  <a:pt x="0" y="0"/>
                </a:moveTo>
                <a:lnTo>
                  <a:pt x="177096" y="0"/>
                </a:lnTo>
                <a:lnTo>
                  <a:pt x="175696" y="1400"/>
                </a:lnTo>
                <a:lnTo>
                  <a:pt x="1400" y="1400"/>
                </a:lnTo>
                <a:close/>
              </a:path>
              <a:path fill="darken" w="177096" h="21600">
                <a:moveTo>
                  <a:pt x="177096" y="0"/>
                </a:moveTo>
                <a:lnTo>
                  <a:pt x="177096" y="21600"/>
                </a:lnTo>
                <a:lnTo>
                  <a:pt x="175696" y="20200"/>
                </a:lnTo>
                <a:lnTo>
                  <a:pt x="175696" y="1400"/>
                </a:lnTo>
                <a:close/>
              </a:path>
              <a:path fill="darkenLess" w="177096" h="21600">
                <a:moveTo>
                  <a:pt x="177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696" y="20200"/>
                </a:lnTo>
                <a:close/>
              </a:path>
              <a:path fill="lighten" w="177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3429000" y="5181480"/>
            <a:ext cx="857160" cy="8575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5029200"/>
            <a:ext cx="2057400" cy="1219320"/>
          </a:xfrm>
          <a:custGeom>
            <a:avLst/>
            <a:gdLst>
              <a:gd name="textAreaLeft" fmla="*/ 78840 w 2057400"/>
              <a:gd name="textAreaRight" fmla="*/ 1978560 w 2057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6442" h="21600">
                <a:moveTo>
                  <a:pt x="0" y="0"/>
                </a:moveTo>
                <a:lnTo>
                  <a:pt x="36442" y="0"/>
                </a:lnTo>
                <a:lnTo>
                  <a:pt x="36442" y="21600"/>
                </a:lnTo>
                <a:lnTo>
                  <a:pt x="0" y="21600"/>
                </a:lnTo>
                <a:close/>
              </a:path>
              <a:path fill="lightenLess" w="36442" h="21600">
                <a:moveTo>
                  <a:pt x="0" y="0"/>
                </a:moveTo>
                <a:lnTo>
                  <a:pt x="36442" y="0"/>
                </a:lnTo>
                <a:lnTo>
                  <a:pt x="35042" y="1400"/>
                </a:lnTo>
                <a:lnTo>
                  <a:pt x="1400" y="1400"/>
                </a:lnTo>
                <a:close/>
              </a:path>
              <a:path fill="darken" w="36442" h="21600">
                <a:moveTo>
                  <a:pt x="36442" y="0"/>
                </a:moveTo>
                <a:lnTo>
                  <a:pt x="36442" y="21600"/>
                </a:lnTo>
                <a:lnTo>
                  <a:pt x="35042" y="20200"/>
                </a:lnTo>
                <a:lnTo>
                  <a:pt x="35042" y="1400"/>
                </a:lnTo>
                <a:close/>
              </a:path>
              <a:path fill="darkenLess" w="36442" h="21600">
                <a:moveTo>
                  <a:pt x="36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42" y="20200"/>
                </a:lnTo>
                <a:close/>
              </a:path>
              <a:path fill="lighten" w="36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Al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exerciţ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5257800" y="5105520"/>
            <a:ext cx="137160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1" name="">
            <a:hlinkClick r:id="" action="ppaction://hlinkshowjump?jump=lastslide"/>
          </p:cNvPr>
          <p:cNvSpPr/>
          <p:nvPr/>
        </p:nvSpPr>
        <p:spPr>
          <a:xfrm>
            <a:off x="304920" y="2971800"/>
            <a:ext cx="2209680" cy="533520"/>
          </a:xfrm>
          <a:custGeom>
            <a:avLst/>
            <a:gdLst>
              <a:gd name="textAreaLeft" fmla="*/ 34560 w 2209680"/>
              <a:gd name="textAreaRight" fmla="*/ 2175120 w 2209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9415" h="21600">
                <a:moveTo>
                  <a:pt x="0" y="0"/>
                </a:moveTo>
                <a:lnTo>
                  <a:pt x="89415" y="0"/>
                </a:lnTo>
                <a:lnTo>
                  <a:pt x="89415" y="21600"/>
                </a:lnTo>
                <a:lnTo>
                  <a:pt x="0" y="21600"/>
                </a:lnTo>
                <a:close/>
              </a:path>
              <a:path fill="lightenLess" w="89415" h="21600">
                <a:moveTo>
                  <a:pt x="0" y="0"/>
                </a:moveTo>
                <a:lnTo>
                  <a:pt x="89415" y="0"/>
                </a:lnTo>
                <a:lnTo>
                  <a:pt x="88015" y="1400"/>
                </a:lnTo>
                <a:lnTo>
                  <a:pt x="1400" y="1400"/>
                </a:lnTo>
                <a:close/>
              </a:path>
              <a:path fill="darken" w="89415" h="21600">
                <a:moveTo>
                  <a:pt x="89415" y="0"/>
                </a:moveTo>
                <a:lnTo>
                  <a:pt x="89415" y="21600"/>
                </a:lnTo>
                <a:lnTo>
                  <a:pt x="88015" y="20200"/>
                </a:lnTo>
                <a:lnTo>
                  <a:pt x="88015" y="1400"/>
                </a:lnTo>
                <a:close/>
              </a:path>
              <a:path fill="darkenLess" w="89415" h="21600">
                <a:moveTo>
                  <a:pt x="89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15" y="20200"/>
                </a:lnTo>
                <a:close/>
              </a:path>
              <a:path fill="lighten" w="89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0 03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25 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3048120" y="29718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7 x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6920" y="297180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2 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2057400"/>
            <a:ext cx="4610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9588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297180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 03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2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048120" y="29718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47 x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876920" y="297180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2 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676520" y="1447920"/>
            <a:ext cx="4190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09588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 rot="493200">
            <a:off x="4038480" y="3581280"/>
            <a:ext cx="300060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570" name="">
            <a:hlinkClick r:id="" action="ppaction://hlinkshowjump?jump=lastslide"/>
          </p:cNvPr>
          <p:cNvSpPr/>
          <p:nvPr/>
        </p:nvSpPr>
        <p:spPr>
          <a:xfrm>
            <a:off x="396252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>
            <a:hlinkClick r:id="" action="ppaction://hlinkshowjump?jump=nextslide"/>
          </p:cNvPr>
          <p:cNvSpPr/>
          <p:nvPr/>
        </p:nvSpPr>
        <p:spPr>
          <a:xfrm>
            <a:off x="6095880" y="4343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>
            <a:hlinkClick r:id="" action="ppaction://hlinkshowjump?jump=lastslide"/>
          </p:cNvPr>
          <p:cNvSpPr/>
          <p:nvPr/>
        </p:nvSpPr>
        <p:spPr>
          <a:xfrm>
            <a:off x="396252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>
            <a:hlinkClick r:id="" action="ppaction://hlinkshowjump?jump=lastslide"/>
          </p:cNvPr>
          <p:cNvSpPr/>
          <p:nvPr/>
        </p:nvSpPr>
        <p:spPr>
          <a:xfrm>
            <a:off x="502920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>
            <a:hlinkClick r:id="" action="ppaction://hlinkshowjump?jump=lastslide"/>
          </p:cNvPr>
          <p:cNvSpPr/>
          <p:nvPr/>
        </p:nvSpPr>
        <p:spPr>
          <a:xfrm>
            <a:off x="6095880" y="5029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lastslide"/>
          </p:cNvPr>
          <p:cNvSpPr/>
          <p:nvPr/>
        </p:nvSpPr>
        <p:spPr>
          <a:xfrm>
            <a:off x="502920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380880" y="3124080"/>
            <a:ext cx="2667240" cy="609840"/>
          </a:xfrm>
          <a:custGeom>
            <a:avLst/>
            <a:gdLst>
              <a:gd name="textAreaLeft" fmla="*/ 39240 w 2667240"/>
              <a:gd name="textAreaRight" fmla="*/ 2628000 w 26672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94428" h="21600">
                <a:moveTo>
                  <a:pt x="0" y="0"/>
                </a:moveTo>
                <a:lnTo>
                  <a:pt x="94428" y="0"/>
                </a:lnTo>
                <a:lnTo>
                  <a:pt x="94428" y="21600"/>
                </a:lnTo>
                <a:lnTo>
                  <a:pt x="0" y="21600"/>
                </a:lnTo>
                <a:close/>
              </a:path>
              <a:path fill="lightenLess" w="94428" h="21600">
                <a:moveTo>
                  <a:pt x="0" y="0"/>
                </a:moveTo>
                <a:lnTo>
                  <a:pt x="94428" y="0"/>
                </a:lnTo>
                <a:lnTo>
                  <a:pt x="93028" y="1400"/>
                </a:lnTo>
                <a:lnTo>
                  <a:pt x="1400" y="1400"/>
                </a:lnTo>
                <a:close/>
              </a:path>
              <a:path fill="darken" w="94428" h="21600">
                <a:moveTo>
                  <a:pt x="94428" y="0"/>
                </a:moveTo>
                <a:lnTo>
                  <a:pt x="94428" y="21600"/>
                </a:lnTo>
                <a:lnTo>
                  <a:pt x="93028" y="20200"/>
                </a:lnTo>
                <a:lnTo>
                  <a:pt x="93028" y="1400"/>
                </a:lnTo>
                <a:close/>
              </a:path>
              <a:path fill="darkenLess" w="94428" h="21600">
                <a:moveTo>
                  <a:pt x="94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028" y="20200"/>
                </a:lnTo>
                <a:close/>
              </a:path>
              <a:path fill="lighten" w="94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Grupe de opera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lica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3886200" y="3124080"/>
            <a:ext cx="2666880" cy="838440"/>
          </a:xfrm>
          <a:custGeom>
            <a:avLst/>
            <a:gdLst>
              <a:gd name="textAreaLeft" fmla="*/ 54360 w 2666880"/>
              <a:gd name="textAreaRight" fmla="*/ 2612520 w 26668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68684" h="21600">
                <a:moveTo>
                  <a:pt x="0" y="0"/>
                </a:moveTo>
                <a:lnTo>
                  <a:pt x="68684" y="0"/>
                </a:lnTo>
                <a:lnTo>
                  <a:pt x="68684" y="21600"/>
                </a:lnTo>
                <a:lnTo>
                  <a:pt x="0" y="21600"/>
                </a:lnTo>
                <a:close/>
              </a:path>
              <a:path fill="lightenLess" w="68684" h="21600">
                <a:moveTo>
                  <a:pt x="0" y="0"/>
                </a:moveTo>
                <a:lnTo>
                  <a:pt x="68684" y="0"/>
                </a:lnTo>
                <a:lnTo>
                  <a:pt x="67284" y="1400"/>
                </a:lnTo>
                <a:lnTo>
                  <a:pt x="1400" y="1400"/>
                </a:lnTo>
                <a:close/>
              </a:path>
              <a:path fill="darken" w="68684" h="21600">
                <a:moveTo>
                  <a:pt x="68684" y="0"/>
                </a:moveTo>
                <a:lnTo>
                  <a:pt x="68684" y="21600"/>
                </a:lnTo>
                <a:lnTo>
                  <a:pt x="67284" y="20200"/>
                </a:lnTo>
                <a:lnTo>
                  <a:pt x="67284" y="1400"/>
                </a:lnTo>
                <a:close/>
              </a:path>
              <a:path fill="darkenLess" w="68684" h="21600">
                <a:moveTo>
                  <a:pt x="68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284" y="20200"/>
                </a:lnTo>
                <a:close/>
              </a:path>
              <a:path fill="lighten" w="68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peraţii de acelaş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r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3886200" y="4191120"/>
            <a:ext cx="2666880" cy="838080"/>
          </a:xfrm>
          <a:custGeom>
            <a:avLst/>
            <a:gdLst>
              <a:gd name="textAreaLeft" fmla="*/ 54000 w 2666880"/>
              <a:gd name="textAreaRight" fmla="*/ 2612880 w 2666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8714" h="21600">
                <a:moveTo>
                  <a:pt x="0" y="0"/>
                </a:moveTo>
                <a:lnTo>
                  <a:pt x="68714" y="0"/>
                </a:lnTo>
                <a:lnTo>
                  <a:pt x="68714" y="21600"/>
                </a:lnTo>
                <a:lnTo>
                  <a:pt x="0" y="21600"/>
                </a:lnTo>
                <a:close/>
              </a:path>
              <a:path fill="lightenLess" w="68714" h="21600">
                <a:moveTo>
                  <a:pt x="0" y="0"/>
                </a:moveTo>
                <a:lnTo>
                  <a:pt x="68714" y="0"/>
                </a:lnTo>
                <a:lnTo>
                  <a:pt x="67314" y="1400"/>
                </a:lnTo>
                <a:lnTo>
                  <a:pt x="1400" y="1400"/>
                </a:lnTo>
                <a:close/>
              </a:path>
              <a:path fill="darken" w="68714" h="21600">
                <a:moveTo>
                  <a:pt x="68714" y="0"/>
                </a:moveTo>
                <a:lnTo>
                  <a:pt x="68714" y="21600"/>
                </a:lnTo>
                <a:lnTo>
                  <a:pt x="67314" y="20200"/>
                </a:lnTo>
                <a:lnTo>
                  <a:pt x="67314" y="1400"/>
                </a:lnTo>
                <a:close/>
              </a:path>
              <a:path fill="darkenLess" w="68714" h="21600">
                <a:moveTo>
                  <a:pt x="6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314" y="20200"/>
                </a:lnTo>
                <a:close/>
              </a:path>
              <a:path fill="lighten" w="6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peraţii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rdine dife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4" action="ppaction://hlinksldjump"/>
          </p:cNvPr>
          <p:cNvSpPr/>
          <p:nvPr/>
        </p:nvSpPr>
        <p:spPr>
          <a:xfrm>
            <a:off x="3886200" y="5257800"/>
            <a:ext cx="2666880" cy="838080"/>
          </a:xfrm>
          <a:custGeom>
            <a:avLst/>
            <a:gdLst>
              <a:gd name="textAreaLeft" fmla="*/ 54000 w 2666880"/>
              <a:gd name="textAreaRight" fmla="*/ 2612880 w 2666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8714" h="21600">
                <a:moveTo>
                  <a:pt x="0" y="0"/>
                </a:moveTo>
                <a:lnTo>
                  <a:pt x="68714" y="0"/>
                </a:lnTo>
                <a:lnTo>
                  <a:pt x="68714" y="21600"/>
                </a:lnTo>
                <a:lnTo>
                  <a:pt x="0" y="21600"/>
                </a:lnTo>
                <a:close/>
              </a:path>
              <a:path fill="lightenLess" w="68714" h="21600">
                <a:moveTo>
                  <a:pt x="0" y="0"/>
                </a:moveTo>
                <a:lnTo>
                  <a:pt x="68714" y="0"/>
                </a:lnTo>
                <a:lnTo>
                  <a:pt x="67314" y="1400"/>
                </a:lnTo>
                <a:lnTo>
                  <a:pt x="1400" y="1400"/>
                </a:lnTo>
                <a:close/>
              </a:path>
              <a:path fill="darken" w="68714" h="21600">
                <a:moveTo>
                  <a:pt x="68714" y="0"/>
                </a:moveTo>
                <a:lnTo>
                  <a:pt x="68714" y="21600"/>
                </a:lnTo>
                <a:lnTo>
                  <a:pt x="67314" y="20200"/>
                </a:lnTo>
                <a:lnTo>
                  <a:pt x="67314" y="1400"/>
                </a:lnTo>
                <a:close/>
              </a:path>
              <a:path fill="darkenLess" w="68714" h="21600">
                <a:moveTo>
                  <a:pt x="6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314" y="20200"/>
                </a:lnTo>
                <a:close/>
              </a:path>
              <a:path fill="lighten" w="6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peraţii 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arante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762120" y="3962520"/>
            <a:ext cx="2062080" cy="2271600"/>
          </a:xfrm>
          <a:prstGeom prst="rect">
            <a:avLst/>
          </a:prstGeom>
          <a:ln w="38160">
            <a:solidFill>
              <a:srgbClr val="330066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0" name="">
            <a:hlinkClick r:id="" action="ppaction://hlinkshowjump?jump=lastslide"/>
          </p:cNvPr>
          <p:cNvSpPr/>
          <p:nvPr/>
        </p:nvSpPr>
        <p:spPr>
          <a:xfrm>
            <a:off x="457200" y="297180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 03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2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lastslide"/>
          </p:cNvPr>
          <p:cNvSpPr/>
          <p:nvPr/>
        </p:nvSpPr>
        <p:spPr>
          <a:xfrm>
            <a:off x="3048120" y="29718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</p:cNvPr>
          <p:cNvSpPr/>
          <p:nvPr/>
        </p:nvSpPr>
        <p:spPr>
          <a:xfrm>
            <a:off x="4419720" y="297180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2 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676520" y="1447920"/>
            <a:ext cx="47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3868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1523880" y="47242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1" name="">
            <a:hlinkClick r:id="" action="ppaction://hlinkshowjump?jump=lastslide"/>
          </p:cNvPr>
          <p:cNvSpPr/>
          <p:nvPr/>
        </p:nvSpPr>
        <p:spPr>
          <a:xfrm>
            <a:off x="457200" y="297180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 03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2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lastslide"/>
          </p:cNvPr>
          <p:cNvSpPr/>
          <p:nvPr/>
        </p:nvSpPr>
        <p:spPr>
          <a:xfrm>
            <a:off x="3048120" y="29718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" action="ppaction://hlinkshowjump?jump=nextslide"/>
          </p:cNvPr>
          <p:cNvSpPr/>
          <p:nvPr/>
        </p:nvSpPr>
        <p:spPr>
          <a:xfrm>
            <a:off x="4419720" y="297180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992 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676520" y="1447920"/>
            <a:ext cx="41907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6" name=""/>
          <p:cNvSpPr/>
          <p:nvPr/>
        </p:nvSpPr>
        <p:spPr>
          <a:xfrm>
            <a:off x="38862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63868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 rot="493200">
            <a:off x="3116160" y="3514680"/>
            <a:ext cx="3915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599" name="">
            <a:hlinkClick r:id="" action="ppaction://hlinkshowjump?jump=lastslide"/>
          </p:cNvPr>
          <p:cNvSpPr/>
          <p:nvPr/>
        </p:nvSpPr>
        <p:spPr>
          <a:xfrm>
            <a:off x="396252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lastslide"/>
          </p:cNvPr>
          <p:cNvSpPr/>
          <p:nvPr/>
        </p:nvSpPr>
        <p:spPr>
          <a:xfrm>
            <a:off x="6095880" y="4343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396252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" action="ppaction://hlinkshowjump?jump=lastslide"/>
          </p:cNvPr>
          <p:cNvSpPr/>
          <p:nvPr/>
        </p:nvSpPr>
        <p:spPr>
          <a:xfrm>
            <a:off x="502920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lastslide"/>
          </p:cNvPr>
          <p:cNvSpPr/>
          <p:nvPr/>
        </p:nvSpPr>
        <p:spPr>
          <a:xfrm>
            <a:off x="6095880" y="5029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>
            <a:hlinkClick r:id="" action="ppaction://hlinkshowjump?jump=lastslide"/>
          </p:cNvPr>
          <p:cNvSpPr/>
          <p:nvPr/>
        </p:nvSpPr>
        <p:spPr>
          <a:xfrm>
            <a:off x="502920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5800" y="2362320"/>
            <a:ext cx="6477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2 : 8 =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0" name="">
            <a:hlinkClick r:id="" action="ppaction://hlinkshowjump?jump=lastslide"/>
          </p:cNvPr>
          <p:cNvSpPr/>
          <p:nvPr/>
        </p:nvSpPr>
        <p:spPr>
          <a:xfrm>
            <a:off x="457200" y="297180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3 030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 2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" action="ppaction://hlinkshowjump?jump=lastslide"/>
          </p:cNvPr>
          <p:cNvSpPr/>
          <p:nvPr/>
        </p:nvSpPr>
        <p:spPr>
          <a:xfrm>
            <a:off x="3048120" y="29718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" action="ppaction://hlinkshowjump?jump=nextslide"/>
          </p:cNvPr>
          <p:cNvSpPr/>
          <p:nvPr/>
        </p:nvSpPr>
        <p:spPr>
          <a:xfrm>
            <a:off x="4419720" y="297180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676520" y="144792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3868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 rot="493200">
            <a:off x="3665520" y="355284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618" name="">
            <a:hlinkClick r:id="" action="ppaction://hlinkshowjump?jump=lastslide"/>
          </p:cNvPr>
          <p:cNvSpPr/>
          <p:nvPr/>
        </p:nvSpPr>
        <p:spPr>
          <a:xfrm>
            <a:off x="396252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" action="ppaction://hlinkshowjump?jump=lastslide"/>
          </p:cNvPr>
          <p:cNvSpPr/>
          <p:nvPr/>
        </p:nvSpPr>
        <p:spPr>
          <a:xfrm>
            <a:off x="6095880" y="4343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>
            <a:hlinkClick r:id="" action="ppaction://hlinkshowjump?jump=lastslide"/>
          </p:cNvPr>
          <p:cNvSpPr/>
          <p:nvPr/>
        </p:nvSpPr>
        <p:spPr>
          <a:xfrm>
            <a:off x="396252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>
            <a:hlinkClick r:id="" action="ppaction://hlinkshowjump?jump=nextslide"/>
          </p:cNvPr>
          <p:cNvSpPr/>
          <p:nvPr/>
        </p:nvSpPr>
        <p:spPr>
          <a:xfrm>
            <a:off x="502920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>
            <a:hlinkClick r:id="" action="ppaction://hlinkshowjump?jump=lastslide"/>
          </p:cNvPr>
          <p:cNvSpPr/>
          <p:nvPr/>
        </p:nvSpPr>
        <p:spPr>
          <a:xfrm>
            <a:off x="6095880" y="5029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" action="ppaction://hlinkshowjump?jump=lastslide"/>
          </p:cNvPr>
          <p:cNvSpPr/>
          <p:nvPr/>
        </p:nvSpPr>
        <p:spPr>
          <a:xfrm>
            <a:off x="502920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2362320"/>
            <a:ext cx="6477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2 : 8 =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29" name="">
            <a:hlinkClick r:id="" action="ppaction://hlinkshowjump?jump=lastslide"/>
          </p:cNvPr>
          <p:cNvSpPr/>
          <p:nvPr/>
        </p:nvSpPr>
        <p:spPr>
          <a:xfrm>
            <a:off x="457200" y="297180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10 + 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nextslide"/>
          </p:cNvPr>
          <p:cNvSpPr/>
          <p:nvPr/>
        </p:nvSpPr>
        <p:spPr>
          <a:xfrm>
            <a:off x="3048120" y="297180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676520" y="144792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2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26708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 rot="493200">
            <a:off x="3665520" y="355284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635" name="">
            <a:hlinkClick r:id="" action="ppaction://hlinkshowjump?jump=lastslide"/>
          </p:cNvPr>
          <p:cNvSpPr/>
          <p:nvPr/>
        </p:nvSpPr>
        <p:spPr>
          <a:xfrm>
            <a:off x="396252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" action="ppaction://hlinkshowjump?jump=lastslide"/>
          </p:cNvPr>
          <p:cNvSpPr/>
          <p:nvPr/>
        </p:nvSpPr>
        <p:spPr>
          <a:xfrm>
            <a:off x="6095880" y="4343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" action="ppaction://hlinkshowjump?jump=lastslide"/>
          </p:cNvPr>
          <p:cNvSpPr/>
          <p:nvPr/>
        </p:nvSpPr>
        <p:spPr>
          <a:xfrm>
            <a:off x="396252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>
            <a:hlinkClick r:id="" action="ppaction://hlinkshowjump?jump=lastslide"/>
          </p:cNvPr>
          <p:cNvSpPr/>
          <p:nvPr/>
        </p:nvSpPr>
        <p:spPr>
          <a:xfrm>
            <a:off x="502920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nextslide"/>
          </p:cNvPr>
          <p:cNvSpPr/>
          <p:nvPr/>
        </p:nvSpPr>
        <p:spPr>
          <a:xfrm>
            <a:off x="6095880" y="5029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lastslide"/>
          </p:cNvPr>
          <p:cNvSpPr/>
          <p:nvPr/>
        </p:nvSpPr>
        <p:spPr>
          <a:xfrm>
            <a:off x="502920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2362320"/>
            <a:ext cx="6477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2 : 8 =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46" name="">
            <a:hlinkClick r:id="" action="ppaction://hlinkshowjump?jump=lastslide"/>
          </p:cNvPr>
          <p:cNvSpPr/>
          <p:nvPr/>
        </p:nvSpPr>
        <p:spPr>
          <a:xfrm>
            <a:off x="1447920" y="297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nextslide"/>
          </p:cNvPr>
          <p:cNvSpPr/>
          <p:nvPr/>
        </p:nvSpPr>
        <p:spPr>
          <a:xfrm>
            <a:off x="3048120" y="297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676520" y="144792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9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29718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 rot="493200">
            <a:off x="3665520" y="355284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652" name="">
            <a:hlinkClick r:id="" action="ppaction://hlinkshowjump?jump=lastslide"/>
          </p:cNvPr>
          <p:cNvSpPr/>
          <p:nvPr/>
        </p:nvSpPr>
        <p:spPr>
          <a:xfrm>
            <a:off x="396252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lastslide"/>
          </p:cNvPr>
          <p:cNvSpPr/>
          <p:nvPr/>
        </p:nvSpPr>
        <p:spPr>
          <a:xfrm>
            <a:off x="6095880" y="4343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>
            <a:hlinkClick r:id="" action="ppaction://hlinkshowjump?jump=lastslide"/>
          </p:cNvPr>
          <p:cNvSpPr/>
          <p:nvPr/>
        </p:nvSpPr>
        <p:spPr>
          <a:xfrm>
            <a:off x="396252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" action="ppaction://hlinkshowjump?jump=lastslide"/>
          </p:cNvPr>
          <p:cNvSpPr/>
          <p:nvPr/>
        </p:nvSpPr>
        <p:spPr>
          <a:xfrm>
            <a:off x="502920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>
            <a:hlinkClick r:id="" action="ppaction://hlinkshowjump?jump=lastslide"/>
          </p:cNvPr>
          <p:cNvSpPr/>
          <p:nvPr/>
        </p:nvSpPr>
        <p:spPr>
          <a:xfrm>
            <a:off x="6095880" y="5029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" action="ppaction://hlinkshowjump?jump=nextslide"/>
          </p:cNvPr>
          <p:cNvSpPr/>
          <p:nvPr/>
        </p:nvSpPr>
        <p:spPr>
          <a:xfrm>
            <a:off x="502920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2362320"/>
            <a:ext cx="6477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2 : 8 =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2" name="">
            <a:hlinkClick r:id="" action="ppaction://hlinkshowjump?jump=lastslide"/>
          </p:cNvPr>
          <p:cNvSpPr/>
          <p:nvPr/>
        </p:nvSpPr>
        <p:spPr>
          <a:xfrm>
            <a:off x="1447920" y="297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nextslide"/>
          </p:cNvPr>
          <p:cNvSpPr/>
          <p:nvPr/>
        </p:nvSpPr>
        <p:spPr>
          <a:xfrm>
            <a:off x="3048120" y="297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676520" y="144792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5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962520" y="29718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2362320"/>
            <a:ext cx="6477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2 : 8 =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" action="ppaction://hlinkshowjump?jump=lastslide"/>
          </p:cNvPr>
          <p:cNvSpPr/>
          <p:nvPr/>
        </p:nvSpPr>
        <p:spPr>
          <a:xfrm>
            <a:off x="4495680" y="29718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2743200" y="4495680"/>
            <a:ext cx="4191120" cy="1371600"/>
          </a:xfrm>
          <a:custGeom>
            <a:avLst/>
            <a:gdLst>
              <a:gd name="textAreaLeft" fmla="*/ 88920 w 4191120"/>
              <a:gd name="textAreaRight" fmla="*/ 4102200 w 41911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65990" h="21600">
                <a:moveTo>
                  <a:pt x="0" y="0"/>
                </a:moveTo>
                <a:lnTo>
                  <a:pt x="65990" y="0"/>
                </a:lnTo>
                <a:lnTo>
                  <a:pt x="65990" y="21600"/>
                </a:lnTo>
                <a:lnTo>
                  <a:pt x="0" y="21600"/>
                </a:lnTo>
                <a:close/>
              </a:path>
              <a:path fill="lightenLess" w="65990" h="21600">
                <a:moveTo>
                  <a:pt x="0" y="0"/>
                </a:moveTo>
                <a:lnTo>
                  <a:pt x="65990" y="0"/>
                </a:lnTo>
                <a:lnTo>
                  <a:pt x="64590" y="1400"/>
                </a:lnTo>
                <a:lnTo>
                  <a:pt x="1400" y="1400"/>
                </a:lnTo>
                <a:close/>
              </a:path>
              <a:path fill="darken" w="65990" h="21600">
                <a:moveTo>
                  <a:pt x="65990" y="0"/>
                </a:moveTo>
                <a:lnTo>
                  <a:pt x="65990" y="21600"/>
                </a:lnTo>
                <a:lnTo>
                  <a:pt x="64590" y="20200"/>
                </a:lnTo>
                <a:lnTo>
                  <a:pt x="64590" y="1400"/>
                </a:lnTo>
                <a:close/>
              </a:path>
              <a:path fill="darkenLess" w="65990" h="21600">
                <a:moveTo>
                  <a:pt x="65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590" y="20200"/>
                </a:lnTo>
                <a:close/>
              </a:path>
              <a:path fill="lighten" w="65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990" h="21600">
                <a:moveTo>
                  <a:pt x="25989" y="3794"/>
                </a:moveTo>
                <a:lnTo>
                  <a:pt x="40002" y="10800"/>
                </a:lnTo>
                <a:lnTo>
                  <a:pt x="25989" y="17806"/>
                </a:lnTo>
                <a:close/>
              </a:path>
            </a:pathLst>
          </a:custGeom>
          <a:solidFill>
            <a:srgbClr val="6ecc92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330066"/>
                </a:solidFill>
                <a:latin typeface="Arial"/>
              </a:rPr>
              <a:t>Verifică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bc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2362320"/>
            <a:ext cx="6477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"/>
          </a:bodyPr>
          <a:p>
            <a:pPr marL="30600" indent="-30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2 : 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= 3 030 – 2 820 + 329 – 992 : 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= 3 030 – 2 820 + 329 – 12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= 210 + 329 – 12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= 539 – 12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0066"/>
                </a:solidFill>
                <a:latin typeface="Arial"/>
              </a:rPr>
              <a:t>= </a:t>
            </a:r>
            <a:r>
              <a:rPr b="1" lang="ro-RO" sz="2800" spc="-1" strike="noStrike">
                <a:solidFill>
                  <a:srgbClr val="d61f0c"/>
                </a:solidFill>
                <a:latin typeface="Arial"/>
              </a:rPr>
              <a:t>4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743200" y="5181480"/>
            <a:ext cx="4419720" cy="1219320"/>
          </a:xfrm>
          <a:custGeom>
            <a:avLst/>
            <a:gdLst>
              <a:gd name="textAreaLeft" fmla="*/ 78840 w 4419720"/>
              <a:gd name="textAreaRight" fmla="*/ 4340880 w 44197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78278" h="21600">
                <a:moveTo>
                  <a:pt x="0" y="0"/>
                </a:moveTo>
                <a:lnTo>
                  <a:pt x="78278" y="0"/>
                </a:lnTo>
                <a:lnTo>
                  <a:pt x="78278" y="21600"/>
                </a:lnTo>
                <a:lnTo>
                  <a:pt x="0" y="21600"/>
                </a:lnTo>
                <a:close/>
              </a:path>
              <a:path fill="lightenLess" w="78278" h="21600">
                <a:moveTo>
                  <a:pt x="0" y="0"/>
                </a:moveTo>
                <a:lnTo>
                  <a:pt x="78278" y="0"/>
                </a:lnTo>
                <a:lnTo>
                  <a:pt x="76878" y="1400"/>
                </a:lnTo>
                <a:lnTo>
                  <a:pt x="1400" y="1400"/>
                </a:lnTo>
                <a:close/>
              </a:path>
              <a:path fill="darken" w="78278" h="21600">
                <a:moveTo>
                  <a:pt x="78278" y="0"/>
                </a:moveTo>
                <a:lnTo>
                  <a:pt x="78278" y="21600"/>
                </a:lnTo>
                <a:lnTo>
                  <a:pt x="76878" y="20200"/>
                </a:lnTo>
                <a:lnTo>
                  <a:pt x="76878" y="1400"/>
                </a:lnTo>
                <a:close/>
              </a:path>
              <a:path fill="darkenLess" w="78278" h="21600">
                <a:moveTo>
                  <a:pt x="7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8" y="20200"/>
                </a:lnTo>
                <a:close/>
              </a:path>
              <a:path fill="lighten" w="7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8278" h="21600">
                <a:moveTo>
                  <a:pt x="32132" y="7493"/>
                </a:moveTo>
                <a:lnTo>
                  <a:pt x="35640" y="7493"/>
                </a:lnTo>
                <a:lnTo>
                  <a:pt x="35640" y="12828"/>
                </a:lnTo>
                <a:cubicBezTo>
                  <a:pt x="35640" y="13751"/>
                  <a:pt x="36441" y="14482"/>
                  <a:pt x="37476" y="14482"/>
                </a:cubicBezTo>
                <a:lnTo>
                  <a:pt x="39139" y="14482"/>
                </a:lnTo>
                <a:cubicBezTo>
                  <a:pt x="40175" y="14482"/>
                  <a:pt x="40975" y="13751"/>
                  <a:pt x="40975" y="12828"/>
                </a:cubicBezTo>
                <a:lnTo>
                  <a:pt x="40975" y="7493"/>
                </a:lnTo>
                <a:lnTo>
                  <a:pt x="39139" y="7493"/>
                </a:lnTo>
                <a:lnTo>
                  <a:pt x="42646" y="3985"/>
                </a:lnTo>
                <a:lnTo>
                  <a:pt x="46319" y="7493"/>
                </a:lnTo>
                <a:lnTo>
                  <a:pt x="44483" y="7493"/>
                </a:lnTo>
                <a:lnTo>
                  <a:pt x="44483" y="12828"/>
                </a:lnTo>
                <a:cubicBezTo>
                  <a:pt x="44483" y="15596"/>
                  <a:pt x="41907" y="18155"/>
                  <a:pt x="39139" y="18155"/>
                </a:cubicBezTo>
                <a:lnTo>
                  <a:pt x="37476" y="18155"/>
                </a:lnTo>
                <a:cubicBezTo>
                  <a:pt x="34709" y="18155"/>
                  <a:pt x="32132" y="15596"/>
                  <a:pt x="32132" y="12828"/>
                </a:cubicBezTo>
                <a:close/>
              </a:path>
            </a:pathLst>
          </a:custGeom>
          <a:solidFill>
            <a:srgbClr val="527b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1" name="">
            <a:hlinkClick r:id="" action="ppaction://hlinkshowjump?jump=nextslide"/>
          </p:cNvPr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6 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657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4 x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371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25780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447920" y="152388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6" name=""/>
          <p:cNvSpPr/>
          <p:nvPr/>
        </p:nvSpPr>
        <p:spPr>
          <a:xfrm>
            <a:off x="31240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324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05120" y="3048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07 x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242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2743200" y="42670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6 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57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4 x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71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3341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008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3048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07 x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00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705" name="">
            <a:hlinkClick r:id="" action="ppaction://hlinkshowjump?jump=lastslide"/>
          </p:cNvPr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>
            <a:hlinkClick r:id="" action="ppaction://hlinkshowjump?jump=nextslide"/>
          </p:cNvPr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" action="ppaction://hlinkshowjump?jump=lastslide"/>
          </p:cNvPr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>
            <a:hlinkClick r:id="" action="ppaction://hlinkshowjump?jump=lastslide"/>
          </p:cNvPr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>
            <a:hlinkClick r:id="" action="ppaction://hlinkshowjump?jump=lastslide"/>
          </p:cNvPr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>
            <a:hlinkClick r:id="" action="ppaction://hlinkshowjump?jump=lastslide"/>
          </p:cNvPr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533520" y="4419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14400" y="1523880"/>
            <a:ext cx="5867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6" name=""/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657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4 x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371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341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533520" y="1523880"/>
            <a:ext cx="6476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următoarea operaţie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1" name=""/>
          <p:cNvSpPr/>
          <p:nvPr/>
        </p:nvSpPr>
        <p:spPr>
          <a:xfrm>
            <a:off x="31240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4008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1905120" y="3048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07 x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00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Arial"/>
              </a:rPr>
              <a:t>Cunoaştem două grupe de operaţii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300" spc="-1" strike="noStrike">
                <a:solidFill>
                  <a:srgbClr val="000000"/>
                </a:solidFill>
                <a:latin typeface="Arial"/>
              </a:rPr>
              <a:t>adunarea şi scădere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operaţii de ordinul 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înmulţirea şi împărţire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operaţii de ordinul al II-le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7696080" y="5562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7493"/>
                </a:moveTo>
                <a:lnTo>
                  <a:pt x="10000" y="7493"/>
                </a:lnTo>
                <a:lnTo>
                  <a:pt x="10000" y="12828"/>
                </a:lnTo>
                <a:cubicBezTo>
                  <a:pt x="10000" y="13751"/>
                  <a:pt x="10801" y="14482"/>
                  <a:pt x="11837" y="14482"/>
                </a:cubicBezTo>
                <a:lnTo>
                  <a:pt x="13499" y="14482"/>
                </a:lnTo>
                <a:cubicBezTo>
                  <a:pt x="14535" y="14482"/>
                  <a:pt x="15335" y="13751"/>
                  <a:pt x="15335" y="12828"/>
                </a:cubicBezTo>
                <a:lnTo>
                  <a:pt x="15335" y="7493"/>
                </a:lnTo>
                <a:lnTo>
                  <a:pt x="13499" y="7493"/>
                </a:lnTo>
                <a:lnTo>
                  <a:pt x="17007" y="3985"/>
                </a:lnTo>
                <a:lnTo>
                  <a:pt x="20679" y="7493"/>
                </a:lnTo>
                <a:lnTo>
                  <a:pt x="18843" y="7493"/>
                </a:lnTo>
                <a:lnTo>
                  <a:pt x="18843" y="12828"/>
                </a:lnTo>
                <a:cubicBezTo>
                  <a:pt x="18843" y="15596"/>
                  <a:pt x="16267" y="18155"/>
                  <a:pt x="13499" y="18155"/>
                </a:cubicBezTo>
                <a:lnTo>
                  <a:pt x="11837" y="18155"/>
                </a:lnTo>
                <a:cubicBezTo>
                  <a:pt x="9069" y="18155"/>
                  <a:pt x="6492" y="15596"/>
                  <a:pt x="6492" y="12828"/>
                </a:cubicBezTo>
                <a:close/>
              </a:path>
            </a:pathLst>
          </a:custGeom>
          <a:gradFill rotWithShape="0">
            <a:gsLst>
              <a:gs pos="0">
                <a:srgbClr val="54ac7c"/>
              </a:gs>
              <a:gs pos="100000">
                <a:srgbClr val="52a879"/>
              </a:gs>
            </a:gsLst>
            <a:lin ang="5400000"/>
          </a:gra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36" name=""/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657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4 x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371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25780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1240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324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905120" y="3048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07 x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7242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746" name="">
            <a:hlinkClick r:id="" action="ppaction://hlinkshowjump?jump=lastslide"/>
          </p:cNvPr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>
            <a:hlinkClick r:id="" action="ppaction://hlinkshowjump?jump=lastslide"/>
          </p:cNvPr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" action="ppaction://hlinkshowjump?jump=nextslide"/>
          </p:cNvPr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>
            <a:hlinkClick r:id="" action="ppaction://hlinkshowjump?jump=lastslide"/>
          </p:cNvPr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>
            <a:hlinkClick r:id="" action="ppaction://hlinkshowjump?jump=lastslide"/>
          </p:cNvPr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lastslide"/>
          </p:cNvPr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 txBox="1"/>
          <p:nvPr/>
        </p:nvSpPr>
        <p:spPr>
          <a:xfrm>
            <a:off x="914400" y="1523880"/>
            <a:ext cx="5867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bc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6" name=""/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" action="ppaction://hlinkshowjump?jump=nextslide"/>
          </p:cNvPr>
          <p:cNvSpPr/>
          <p:nvPr/>
        </p:nvSpPr>
        <p:spPr>
          <a:xfrm>
            <a:off x="35053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4 x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371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181480" y="3048120"/>
            <a:ext cx="1067040" cy="53316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33520" y="1523880"/>
            <a:ext cx="6476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următoarea operaţie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1" name=""/>
          <p:cNvSpPr/>
          <p:nvPr/>
        </p:nvSpPr>
        <p:spPr>
          <a:xfrm>
            <a:off x="29718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2485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9051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6483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76" name=""/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>
            <a:hlinkClick r:id="" action="ppaction://hlinkshowjump?jump=lastslide"/>
          </p:cNvPr>
          <p:cNvSpPr/>
          <p:nvPr/>
        </p:nvSpPr>
        <p:spPr>
          <a:xfrm>
            <a:off x="358128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4 x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371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25780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0481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324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051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7242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>
            <a:hlinkClick r:id="" action="ppaction://hlinkshowjump?jump=lastslide"/>
          </p:cNvPr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>
            <a:hlinkClick r:id="" action="ppaction://hlinkshowjump?jump=lastslide"/>
          </p:cNvPr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lastslide"/>
          </p:cNvPr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>
            <a:hlinkClick r:id="" action="ppaction://hlinkshowjump?jump=nextslide"/>
          </p:cNvPr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lastslide"/>
          </p:cNvPr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" action="ppaction://hlinkshowjump?jump=lastslide"/>
          </p:cNvPr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914400" y="1523880"/>
            <a:ext cx="5867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97" name="">
            <a:hlinkClick r:id="" action="ppaction://hlinkshowjump?jump=lastslide"/>
          </p:cNvPr>
          <p:cNvSpPr/>
          <p:nvPr/>
        </p:nvSpPr>
        <p:spPr>
          <a:xfrm>
            <a:off x="304920" y="3048120"/>
            <a:ext cx="1676160" cy="53316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7875" h="21600">
                <a:moveTo>
                  <a:pt x="0" y="0"/>
                </a:moveTo>
                <a:lnTo>
                  <a:pt x="67875" y="0"/>
                </a:lnTo>
                <a:lnTo>
                  <a:pt x="67875" y="21600"/>
                </a:lnTo>
                <a:lnTo>
                  <a:pt x="0" y="21600"/>
                </a:lnTo>
                <a:close/>
              </a:path>
              <a:path fill="lightenLess" w="67875" h="21600">
                <a:moveTo>
                  <a:pt x="0" y="0"/>
                </a:moveTo>
                <a:lnTo>
                  <a:pt x="67875" y="0"/>
                </a:lnTo>
                <a:lnTo>
                  <a:pt x="66475" y="1400"/>
                </a:lnTo>
                <a:lnTo>
                  <a:pt x="1400" y="1400"/>
                </a:lnTo>
                <a:close/>
              </a:path>
              <a:path fill="darken" w="67875" h="21600">
                <a:moveTo>
                  <a:pt x="67875" y="0"/>
                </a:moveTo>
                <a:lnTo>
                  <a:pt x="67875" y="21600"/>
                </a:lnTo>
                <a:lnTo>
                  <a:pt x="66475" y="20200"/>
                </a:lnTo>
                <a:lnTo>
                  <a:pt x="66475" y="1400"/>
                </a:lnTo>
                <a:close/>
              </a:path>
              <a:path fill="darkenLess" w="67875" h="21600">
                <a:moveTo>
                  <a:pt x="67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75" y="20200"/>
                </a:lnTo>
                <a:close/>
              </a:path>
              <a:path fill="lighten" w="67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 + 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1911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447920" y="152388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0" name=""/>
          <p:cNvSpPr/>
          <p:nvPr/>
        </p:nvSpPr>
        <p:spPr>
          <a:xfrm>
            <a:off x="19810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578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657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>
            <a:hlinkClick r:id="" action="ppaction://hlinkshowjump?jump=lastslide"/>
          </p:cNvPr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>
            <a:hlinkClick r:id="" action="ppaction://hlinkshowjump?jump=lastslide"/>
          </p:cNvPr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>
            <a:hlinkClick r:id="" action="ppaction://hlinkshowjump?jump=lastslide"/>
          </p:cNvPr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" action="ppaction://hlinkshowjump?jump=lastslide"/>
          </p:cNvPr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>
            <a:hlinkClick r:id="" action="ppaction://hlinkshowjump?jump=nextslide"/>
          </p:cNvPr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>
            <a:hlinkClick r:id="" action="ppaction://hlinkshowjump?jump=lastslide"/>
          </p:cNvPr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811" name="">
            <a:hlinkClick r:id="" action="ppaction://hlinkshowjump?jump=lastslide"/>
          </p:cNvPr>
          <p:cNvSpPr/>
          <p:nvPr/>
        </p:nvSpPr>
        <p:spPr>
          <a:xfrm>
            <a:off x="2514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6" name=""/>
          <p:cNvSpPr/>
          <p:nvPr/>
        </p:nvSpPr>
        <p:spPr>
          <a:xfrm>
            <a:off x="2895480" y="3048120"/>
            <a:ext cx="1067040" cy="53316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447920" y="152388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3623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>
            <a:hlinkClick r:id="" action="ppaction://hlinkshowjump?jump=lastslide"/>
          </p:cNvPr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" action="ppaction://hlinkshowjump?jump=lastslide"/>
          </p:cNvPr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" action="ppaction://hlinkshowjump?jump=lastslide"/>
          </p:cNvPr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>
            <a:hlinkClick r:id="" action="ppaction://hlinkshowjump?jump=lastslide"/>
          </p:cNvPr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" action="ppaction://hlinkshowjump?jump=lastslide"/>
          </p:cNvPr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828" name="">
            <a:hlinkClick r:id="" action="ppaction://hlinkshowjump?jump=lastslide"/>
          </p:cNvPr>
          <p:cNvSpPr/>
          <p:nvPr/>
        </p:nvSpPr>
        <p:spPr>
          <a:xfrm>
            <a:off x="304920" y="3048120"/>
            <a:ext cx="2057400" cy="53316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3310" h="21600">
                <a:moveTo>
                  <a:pt x="0" y="0"/>
                </a:moveTo>
                <a:lnTo>
                  <a:pt x="83310" y="0"/>
                </a:lnTo>
                <a:lnTo>
                  <a:pt x="83310" y="21600"/>
                </a:lnTo>
                <a:lnTo>
                  <a:pt x="0" y="21600"/>
                </a:lnTo>
                <a:close/>
              </a:path>
              <a:path fill="lightenLess" w="83310" h="21600">
                <a:moveTo>
                  <a:pt x="0" y="0"/>
                </a:moveTo>
                <a:lnTo>
                  <a:pt x="83310" y="0"/>
                </a:lnTo>
                <a:lnTo>
                  <a:pt x="81910" y="1400"/>
                </a:lnTo>
                <a:lnTo>
                  <a:pt x="1400" y="1400"/>
                </a:lnTo>
                <a:close/>
              </a:path>
              <a:path fill="darken" w="83310" h="21600">
                <a:moveTo>
                  <a:pt x="83310" y="0"/>
                </a:moveTo>
                <a:lnTo>
                  <a:pt x="83310" y="21600"/>
                </a:lnTo>
                <a:lnTo>
                  <a:pt x="81910" y="20200"/>
                </a:lnTo>
                <a:lnTo>
                  <a:pt x="81910" y="1400"/>
                </a:lnTo>
                <a:close/>
              </a:path>
              <a:path fill="darkenLess" w="83310" h="21600">
                <a:moveTo>
                  <a:pt x="83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910" y="20200"/>
                </a:lnTo>
                <a:close/>
              </a:path>
              <a:path fill="lighten" w="83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2 9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3" name=""/>
          <p:cNvSpPr/>
          <p:nvPr/>
        </p:nvSpPr>
        <p:spPr>
          <a:xfrm>
            <a:off x="2209680" y="3048120"/>
            <a:ext cx="1067040" cy="53316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1447920" y="152388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5" name=""/>
          <p:cNvSpPr/>
          <p:nvPr/>
        </p:nvSpPr>
        <p:spPr>
          <a:xfrm>
            <a:off x="3276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6765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nextslide"/>
          </p:cNvPr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>
            <a:hlinkClick r:id="" action="ppaction://hlinkshowjump?jump=lastslide"/>
          </p:cNvPr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>
            <a:hlinkClick r:id="" action="ppaction://hlinkshowjump?jump=lastslide"/>
          </p:cNvPr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>
            <a:hlinkClick r:id="" action="ppaction://hlinkshowjump?jump=lastslide"/>
          </p:cNvPr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>
            <a:hlinkClick r:id="" action="ppaction://hlinkshowjump?jump=lastslide"/>
          </p:cNvPr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>
            <a:hlinkClick r:id="" action="ppaction://hlinkshowjump?jump=lastslide"/>
          </p:cNvPr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845" name="">
            <a:hlinkClick r:id="" action="ppaction://hlinkshowjump?jump=lastslide"/>
          </p:cNvPr>
          <p:cNvSpPr/>
          <p:nvPr/>
        </p:nvSpPr>
        <p:spPr>
          <a:xfrm>
            <a:off x="5335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50" name=""/>
          <p:cNvSpPr/>
          <p:nvPr/>
        </p:nvSpPr>
        <p:spPr>
          <a:xfrm>
            <a:off x="2209680" y="3048120"/>
            <a:ext cx="1067040" cy="53316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447920" y="152388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2" name=""/>
          <p:cNvSpPr/>
          <p:nvPr/>
        </p:nvSpPr>
        <p:spPr>
          <a:xfrm>
            <a:off x="3276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6765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09880" y="3048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d61f0c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>
            <a:hlinkClick r:id="" action="ppaction://hlinkshowjump?jump=lastslide"/>
          </p:cNvPr>
          <p:cNvSpPr/>
          <p:nvPr/>
        </p:nvSpPr>
        <p:spPr>
          <a:xfrm>
            <a:off x="5335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859" name="">
            <a:hlinkClick r:id="" action="ppaction://hlinkshowjump?jump=nextslide"/>
          </p:cNvPr>
          <p:cNvSpPr/>
          <p:nvPr/>
        </p:nvSpPr>
        <p:spPr>
          <a:xfrm>
            <a:off x="2743200" y="4495680"/>
            <a:ext cx="4191120" cy="1371600"/>
          </a:xfrm>
          <a:custGeom>
            <a:avLst/>
            <a:gdLst>
              <a:gd name="textAreaLeft" fmla="*/ 88920 w 4191120"/>
              <a:gd name="textAreaRight" fmla="*/ 4102200 w 41911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65990" h="21600">
                <a:moveTo>
                  <a:pt x="0" y="0"/>
                </a:moveTo>
                <a:lnTo>
                  <a:pt x="65990" y="0"/>
                </a:lnTo>
                <a:lnTo>
                  <a:pt x="65990" y="21600"/>
                </a:lnTo>
                <a:lnTo>
                  <a:pt x="0" y="21600"/>
                </a:lnTo>
                <a:close/>
              </a:path>
              <a:path fill="lightenLess" w="65990" h="21600">
                <a:moveTo>
                  <a:pt x="0" y="0"/>
                </a:moveTo>
                <a:lnTo>
                  <a:pt x="65990" y="0"/>
                </a:lnTo>
                <a:lnTo>
                  <a:pt x="64590" y="1400"/>
                </a:lnTo>
                <a:lnTo>
                  <a:pt x="1400" y="1400"/>
                </a:lnTo>
                <a:close/>
              </a:path>
              <a:path fill="darken" w="65990" h="21600">
                <a:moveTo>
                  <a:pt x="65990" y="0"/>
                </a:moveTo>
                <a:lnTo>
                  <a:pt x="65990" y="21600"/>
                </a:lnTo>
                <a:lnTo>
                  <a:pt x="64590" y="20200"/>
                </a:lnTo>
                <a:lnTo>
                  <a:pt x="64590" y="1400"/>
                </a:lnTo>
                <a:close/>
              </a:path>
              <a:path fill="darkenLess" w="65990" h="21600">
                <a:moveTo>
                  <a:pt x="65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590" y="20200"/>
                </a:lnTo>
                <a:close/>
              </a:path>
              <a:path fill="lighten" w="65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990" h="21600">
                <a:moveTo>
                  <a:pt x="25989" y="3794"/>
                </a:moveTo>
                <a:lnTo>
                  <a:pt x="40002" y="10800"/>
                </a:lnTo>
                <a:lnTo>
                  <a:pt x="25989" y="17806"/>
                </a:lnTo>
                <a:close/>
              </a:path>
            </a:pathLst>
          </a:custGeom>
          <a:solidFill>
            <a:srgbClr val="6ecc92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330066"/>
                </a:solidFill>
                <a:latin typeface="Arial"/>
              </a:rPr>
              <a:t>Verifică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57200" y="2362320"/>
            <a:ext cx="58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= 184 + 4 842 - 2 916 + 12 24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= 5 026 – 2 916 + 12 24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= 2 110 + 12 244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>
            <a:hlinkClick r:id="" action="ppaction://hlinkshowjump?jump=lastslide"/>
          </p:cNvPr>
          <p:cNvSpPr/>
          <p:nvPr/>
        </p:nvSpPr>
        <p:spPr>
          <a:xfrm>
            <a:off x="838080" y="44956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514600" y="5105520"/>
            <a:ext cx="4724280" cy="1371600"/>
          </a:xfrm>
          <a:custGeom>
            <a:avLst/>
            <a:gdLst>
              <a:gd name="textAreaLeft" fmla="*/ 88920 w 4724280"/>
              <a:gd name="textAreaRight" fmla="*/ 4635360 w 47242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74384" h="21600">
                <a:moveTo>
                  <a:pt x="0" y="0"/>
                </a:moveTo>
                <a:lnTo>
                  <a:pt x="74384" y="0"/>
                </a:lnTo>
                <a:lnTo>
                  <a:pt x="74384" y="21600"/>
                </a:lnTo>
                <a:lnTo>
                  <a:pt x="0" y="21600"/>
                </a:lnTo>
                <a:close/>
              </a:path>
              <a:path fill="lightenLess" w="74384" h="21600">
                <a:moveTo>
                  <a:pt x="0" y="0"/>
                </a:moveTo>
                <a:lnTo>
                  <a:pt x="74384" y="0"/>
                </a:lnTo>
                <a:lnTo>
                  <a:pt x="72984" y="1400"/>
                </a:lnTo>
                <a:lnTo>
                  <a:pt x="1400" y="1400"/>
                </a:lnTo>
                <a:close/>
              </a:path>
              <a:path fill="darken" w="74384" h="21600">
                <a:moveTo>
                  <a:pt x="74384" y="0"/>
                </a:moveTo>
                <a:lnTo>
                  <a:pt x="74384" y="21600"/>
                </a:lnTo>
                <a:lnTo>
                  <a:pt x="72984" y="20200"/>
                </a:lnTo>
                <a:lnTo>
                  <a:pt x="72984" y="1400"/>
                </a:lnTo>
                <a:close/>
              </a:path>
              <a:path fill="darkenLess" w="74384" h="21600">
                <a:moveTo>
                  <a:pt x="7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84" y="20200"/>
                </a:lnTo>
                <a:close/>
              </a:path>
              <a:path fill="lighten" w="7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384" h="21600">
                <a:moveTo>
                  <a:pt x="30186" y="7493"/>
                </a:moveTo>
                <a:lnTo>
                  <a:pt x="33693" y="7493"/>
                </a:lnTo>
                <a:lnTo>
                  <a:pt x="33693" y="12828"/>
                </a:lnTo>
                <a:cubicBezTo>
                  <a:pt x="33693" y="13751"/>
                  <a:pt x="34494" y="14482"/>
                  <a:pt x="35530" y="14482"/>
                </a:cubicBezTo>
                <a:lnTo>
                  <a:pt x="37192" y="14482"/>
                </a:lnTo>
                <a:cubicBezTo>
                  <a:pt x="38228" y="14482"/>
                  <a:pt x="39029" y="13751"/>
                  <a:pt x="39029" y="12828"/>
                </a:cubicBezTo>
                <a:lnTo>
                  <a:pt x="39029" y="7493"/>
                </a:lnTo>
                <a:lnTo>
                  <a:pt x="37192" y="7493"/>
                </a:lnTo>
                <a:lnTo>
                  <a:pt x="40700" y="3985"/>
                </a:lnTo>
                <a:lnTo>
                  <a:pt x="44373" y="7493"/>
                </a:lnTo>
                <a:lnTo>
                  <a:pt x="42536" y="7493"/>
                </a:lnTo>
                <a:lnTo>
                  <a:pt x="42536" y="12828"/>
                </a:lnTo>
                <a:cubicBezTo>
                  <a:pt x="42536" y="15596"/>
                  <a:pt x="39960" y="18155"/>
                  <a:pt x="37192" y="18155"/>
                </a:cubicBezTo>
                <a:lnTo>
                  <a:pt x="35530" y="18155"/>
                </a:lnTo>
                <a:cubicBezTo>
                  <a:pt x="32762" y="18155"/>
                  <a:pt x="30186" y="15596"/>
                  <a:pt x="30186" y="12828"/>
                </a:cubicBezTo>
                <a:close/>
              </a:path>
            </a:pathLst>
          </a:custGeom>
          <a:solidFill>
            <a:srgbClr val="527b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69" name=""/>
          <p:cNvSpPr/>
          <p:nvPr/>
        </p:nvSpPr>
        <p:spPr>
          <a:xfrm>
            <a:off x="304920" y="2971800"/>
            <a:ext cx="6248160" cy="762120"/>
          </a:xfrm>
          <a:custGeom>
            <a:avLst/>
            <a:gdLst>
              <a:gd name="textAreaLeft" fmla="*/ 49320 w 6248160"/>
              <a:gd name="textAreaRight" fmla="*/ 6198840 w 62481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77012" h="21600">
                <a:moveTo>
                  <a:pt x="0" y="0"/>
                </a:moveTo>
                <a:lnTo>
                  <a:pt x="177012" y="0"/>
                </a:lnTo>
                <a:lnTo>
                  <a:pt x="177012" y="21600"/>
                </a:lnTo>
                <a:lnTo>
                  <a:pt x="0" y="21600"/>
                </a:lnTo>
                <a:close/>
              </a:path>
              <a:path fill="lightenLess" w="177012" h="21600">
                <a:moveTo>
                  <a:pt x="0" y="0"/>
                </a:moveTo>
                <a:lnTo>
                  <a:pt x="177012" y="0"/>
                </a:lnTo>
                <a:lnTo>
                  <a:pt x="175612" y="1400"/>
                </a:lnTo>
                <a:lnTo>
                  <a:pt x="1400" y="1400"/>
                </a:lnTo>
                <a:close/>
              </a:path>
              <a:path fill="darken" w="177012" h="21600">
                <a:moveTo>
                  <a:pt x="177012" y="0"/>
                </a:moveTo>
                <a:lnTo>
                  <a:pt x="177012" y="21600"/>
                </a:lnTo>
                <a:lnTo>
                  <a:pt x="175612" y="20200"/>
                </a:lnTo>
                <a:lnTo>
                  <a:pt x="175612" y="1400"/>
                </a:lnTo>
                <a:close/>
              </a:path>
              <a:path fill="darkenLess" w="177012" h="21600">
                <a:moveTo>
                  <a:pt x="177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612" y="20200"/>
                </a:lnTo>
                <a:close/>
              </a:path>
              <a:path fill="lighten" w="177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  <a:ea typeface="Arial"/>
              </a:rPr>
              <a:t>–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 1 019) 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  <a:ea typeface="Arial"/>
              </a:rPr>
              <a:t>– (508 + 374) x 10 =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1905120" y="1981080"/>
            <a:ext cx="4257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00ff99"/>
                </a:solidFill>
                <a:latin typeface="Arial Black"/>
              </a:rPr>
              <a:t>Alege exerciţiul !</a:t>
            </a:r>
            <a:endParaRPr b="0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00ff99"/>
              </a:solidFill>
              <a:latin typeface="Arial Black"/>
              <a:ea typeface="Arial Black"/>
            </a:endParaRPr>
          </a:p>
        </p:txBody>
      </p:sp>
      <p:sp>
        <p:nvSpPr>
          <p:cNvPr id="871" name=""/>
          <p:cNvSpPr/>
          <p:nvPr/>
        </p:nvSpPr>
        <p:spPr>
          <a:xfrm>
            <a:off x="304920" y="3962520"/>
            <a:ext cx="6248160" cy="761760"/>
          </a:xfrm>
          <a:custGeom>
            <a:avLst/>
            <a:gdLst>
              <a:gd name="textAreaLeft" fmla="*/ 49320 w 6248160"/>
              <a:gd name="textAreaRight" fmla="*/ 6198840 w 62481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77096" h="21600">
                <a:moveTo>
                  <a:pt x="0" y="0"/>
                </a:moveTo>
                <a:lnTo>
                  <a:pt x="177096" y="0"/>
                </a:lnTo>
                <a:lnTo>
                  <a:pt x="177096" y="21600"/>
                </a:lnTo>
                <a:lnTo>
                  <a:pt x="0" y="21600"/>
                </a:lnTo>
                <a:close/>
              </a:path>
              <a:path fill="lightenLess" w="177096" h="21600">
                <a:moveTo>
                  <a:pt x="0" y="0"/>
                </a:moveTo>
                <a:lnTo>
                  <a:pt x="177096" y="0"/>
                </a:lnTo>
                <a:lnTo>
                  <a:pt x="175696" y="1400"/>
                </a:lnTo>
                <a:lnTo>
                  <a:pt x="1400" y="1400"/>
                </a:lnTo>
                <a:close/>
              </a:path>
              <a:path fill="darken" w="177096" h="21600">
                <a:moveTo>
                  <a:pt x="177096" y="0"/>
                </a:moveTo>
                <a:lnTo>
                  <a:pt x="177096" y="21600"/>
                </a:lnTo>
                <a:lnTo>
                  <a:pt x="175696" y="20200"/>
                </a:lnTo>
                <a:lnTo>
                  <a:pt x="175696" y="1400"/>
                </a:lnTo>
                <a:close/>
              </a:path>
              <a:path fill="darkenLess" w="177096" h="21600">
                <a:moveTo>
                  <a:pt x="177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696" y="20200"/>
                </a:lnTo>
                <a:close/>
              </a:path>
              <a:path fill="lighten" w="177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  <a:ea typeface="Arial"/>
              </a:rPr>
              <a:t>[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  <a:ea typeface="Arial"/>
              </a:rPr>
              <a:t>840 – (1 000 – 64 x 5) : 4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  <a:ea typeface="Arial"/>
              </a:rPr>
              <a:t>]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  <a:ea typeface="Arial"/>
              </a:rPr>
              <a:t> : 10 + 33 =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105520" y="5105520"/>
            <a:ext cx="2057400" cy="1218960"/>
          </a:xfrm>
          <a:custGeom>
            <a:avLst/>
            <a:gdLst>
              <a:gd name="textAreaLeft" fmla="*/ 78840 w 2057400"/>
              <a:gd name="textAreaRight" fmla="*/ 1978560 w 20574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6453" h="21600">
                <a:moveTo>
                  <a:pt x="0" y="0"/>
                </a:moveTo>
                <a:lnTo>
                  <a:pt x="36453" y="0"/>
                </a:lnTo>
                <a:lnTo>
                  <a:pt x="36453" y="21600"/>
                </a:lnTo>
                <a:lnTo>
                  <a:pt x="0" y="21600"/>
                </a:lnTo>
                <a:close/>
              </a:path>
              <a:path fill="lightenLess" w="36453" h="21600">
                <a:moveTo>
                  <a:pt x="0" y="0"/>
                </a:moveTo>
                <a:lnTo>
                  <a:pt x="36453" y="0"/>
                </a:lnTo>
                <a:lnTo>
                  <a:pt x="35053" y="1400"/>
                </a:lnTo>
                <a:lnTo>
                  <a:pt x="1400" y="1400"/>
                </a:lnTo>
                <a:close/>
              </a:path>
              <a:path fill="darken" w="36453" h="21600">
                <a:moveTo>
                  <a:pt x="36453" y="0"/>
                </a:moveTo>
                <a:lnTo>
                  <a:pt x="36453" y="21600"/>
                </a:lnTo>
                <a:lnTo>
                  <a:pt x="35053" y="20200"/>
                </a:lnTo>
                <a:lnTo>
                  <a:pt x="35053" y="1400"/>
                </a:lnTo>
                <a:close/>
              </a:path>
              <a:path fill="darkenLess" w="36453" h="21600">
                <a:moveTo>
                  <a:pt x="36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53" y="20200"/>
                </a:lnTo>
                <a:close/>
              </a:path>
              <a:path fill="lighten" w="36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Al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exerciţ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3"/>
          <a:stretch/>
        </p:blipFill>
        <p:spPr>
          <a:xfrm>
            <a:off x="1752480" y="5105520"/>
            <a:ext cx="137160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77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ele mici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9" name="">
            <a:hlinkClick r:id="" action="ppaction://hlinkshowjump?jump=nextslide"/>
          </p:cNvPr>
          <p:cNvSpPr/>
          <p:nvPr/>
        </p:nvSpPr>
        <p:spPr>
          <a:xfrm>
            <a:off x="1371600" y="3048120"/>
            <a:ext cx="1905120" cy="53316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7145" h="21600">
                <a:moveTo>
                  <a:pt x="0" y="0"/>
                </a:moveTo>
                <a:lnTo>
                  <a:pt x="77145" y="0"/>
                </a:lnTo>
                <a:lnTo>
                  <a:pt x="77145" y="21600"/>
                </a:lnTo>
                <a:lnTo>
                  <a:pt x="0" y="21600"/>
                </a:lnTo>
                <a:close/>
              </a:path>
              <a:path fill="lightenLess" w="77145" h="21600">
                <a:moveTo>
                  <a:pt x="0" y="0"/>
                </a:moveTo>
                <a:lnTo>
                  <a:pt x="77145" y="0"/>
                </a:lnTo>
                <a:lnTo>
                  <a:pt x="75745" y="1400"/>
                </a:lnTo>
                <a:lnTo>
                  <a:pt x="1400" y="1400"/>
                </a:lnTo>
                <a:close/>
              </a:path>
              <a:path fill="darken" w="77145" h="21600">
                <a:moveTo>
                  <a:pt x="77145" y="0"/>
                </a:moveTo>
                <a:lnTo>
                  <a:pt x="77145" y="21600"/>
                </a:lnTo>
                <a:lnTo>
                  <a:pt x="75745" y="20200"/>
                </a:lnTo>
                <a:lnTo>
                  <a:pt x="75745" y="1400"/>
                </a:lnTo>
                <a:close/>
              </a:path>
              <a:path fill="darkenLess" w="77145" h="21600">
                <a:moveTo>
                  <a:pt x="7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745" y="20200"/>
                </a:lnTo>
                <a:close/>
              </a:path>
              <a:path fill="lighten" w="7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200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10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809880" y="3048120"/>
            <a:ext cx="1828800" cy="53316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4055" h="21600">
                <a:moveTo>
                  <a:pt x="0" y="0"/>
                </a:moveTo>
                <a:lnTo>
                  <a:pt x="74055" y="0"/>
                </a:lnTo>
                <a:lnTo>
                  <a:pt x="74055" y="21600"/>
                </a:lnTo>
                <a:lnTo>
                  <a:pt x="0" y="21600"/>
                </a:lnTo>
                <a:close/>
              </a:path>
              <a:path fill="lightenLess" w="74055" h="21600">
                <a:moveTo>
                  <a:pt x="0" y="0"/>
                </a:moveTo>
                <a:lnTo>
                  <a:pt x="74055" y="0"/>
                </a:lnTo>
                <a:lnTo>
                  <a:pt x="72655" y="1400"/>
                </a:lnTo>
                <a:lnTo>
                  <a:pt x="1400" y="1400"/>
                </a:lnTo>
                <a:close/>
              </a:path>
              <a:path fill="darken" w="74055" h="21600">
                <a:moveTo>
                  <a:pt x="74055" y="0"/>
                </a:moveTo>
                <a:lnTo>
                  <a:pt x="74055" y="21600"/>
                </a:lnTo>
                <a:lnTo>
                  <a:pt x="72655" y="20200"/>
                </a:lnTo>
                <a:lnTo>
                  <a:pt x="72655" y="1400"/>
                </a:lnTo>
                <a:close/>
              </a:path>
              <a:path fill="darkenLess" w="74055" h="21600">
                <a:moveTo>
                  <a:pt x="74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55" y="20200"/>
                </a:lnTo>
                <a:close/>
              </a:path>
              <a:path fill="lighten" w="74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508 +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76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9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638680" y="30481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771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190880" cy="11908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prima operaţie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Operaţiile de acelaşi ordin se rezolvă în ordinea în care sunt date, de la stânga la dreapta, într-o singură etapă dacă nu cuprind parante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375 + 45 + 160 = 420 + 160 = 58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375 + 45 – 160 = 420 – 160 = 2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36 x 2 x 3 = 72 x 3 = 2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36 x 2  : 3 = 72  : 3 =  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7696080" y="5562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7493"/>
                </a:moveTo>
                <a:lnTo>
                  <a:pt x="10000" y="7493"/>
                </a:lnTo>
                <a:lnTo>
                  <a:pt x="10000" y="12828"/>
                </a:lnTo>
                <a:cubicBezTo>
                  <a:pt x="10000" y="13751"/>
                  <a:pt x="10801" y="14482"/>
                  <a:pt x="11837" y="14482"/>
                </a:cubicBezTo>
                <a:lnTo>
                  <a:pt x="13499" y="14482"/>
                </a:lnTo>
                <a:cubicBezTo>
                  <a:pt x="14535" y="14482"/>
                  <a:pt x="15335" y="13751"/>
                  <a:pt x="15335" y="12828"/>
                </a:cubicBezTo>
                <a:lnTo>
                  <a:pt x="15335" y="7493"/>
                </a:lnTo>
                <a:lnTo>
                  <a:pt x="13499" y="7493"/>
                </a:lnTo>
                <a:lnTo>
                  <a:pt x="17007" y="3985"/>
                </a:lnTo>
                <a:lnTo>
                  <a:pt x="20679" y="7493"/>
                </a:lnTo>
                <a:lnTo>
                  <a:pt x="18843" y="7493"/>
                </a:lnTo>
                <a:lnTo>
                  <a:pt x="18843" y="12828"/>
                </a:lnTo>
                <a:cubicBezTo>
                  <a:pt x="18843" y="15596"/>
                  <a:pt x="16267" y="18155"/>
                  <a:pt x="13499" y="18155"/>
                </a:cubicBezTo>
                <a:lnTo>
                  <a:pt x="11837" y="18155"/>
                </a:lnTo>
                <a:cubicBezTo>
                  <a:pt x="9069" y="18155"/>
                  <a:pt x="6492" y="15596"/>
                  <a:pt x="6492" y="12828"/>
                </a:cubicBezTo>
                <a:close/>
              </a:path>
            </a:pathLst>
          </a:custGeom>
          <a:gradFill rotWithShape="0">
            <a:gsLst>
              <a:gs pos="0">
                <a:srgbClr val="54ac7c"/>
              </a:gs>
              <a:gs pos="100000">
                <a:srgbClr val="52a879"/>
              </a:gs>
            </a:gsLst>
            <a:lin ang="5400000"/>
          </a:gra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0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ele mici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2" name=""/>
          <p:cNvSpPr/>
          <p:nvPr/>
        </p:nvSpPr>
        <p:spPr>
          <a:xfrm>
            <a:off x="1371600" y="3048120"/>
            <a:ext cx="1905120" cy="53316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7145" h="21600">
                <a:moveTo>
                  <a:pt x="0" y="0"/>
                </a:moveTo>
                <a:lnTo>
                  <a:pt x="77145" y="0"/>
                </a:lnTo>
                <a:lnTo>
                  <a:pt x="77145" y="21600"/>
                </a:lnTo>
                <a:lnTo>
                  <a:pt x="0" y="21600"/>
                </a:lnTo>
                <a:close/>
              </a:path>
              <a:path fill="lightenLess" w="77145" h="21600">
                <a:moveTo>
                  <a:pt x="0" y="0"/>
                </a:moveTo>
                <a:lnTo>
                  <a:pt x="77145" y="0"/>
                </a:lnTo>
                <a:lnTo>
                  <a:pt x="75745" y="1400"/>
                </a:lnTo>
                <a:lnTo>
                  <a:pt x="1400" y="1400"/>
                </a:lnTo>
                <a:close/>
              </a:path>
              <a:path fill="darken" w="77145" h="21600">
                <a:moveTo>
                  <a:pt x="77145" y="0"/>
                </a:moveTo>
                <a:lnTo>
                  <a:pt x="77145" y="21600"/>
                </a:lnTo>
                <a:lnTo>
                  <a:pt x="75745" y="20200"/>
                </a:lnTo>
                <a:lnTo>
                  <a:pt x="75745" y="1400"/>
                </a:lnTo>
                <a:close/>
              </a:path>
              <a:path fill="darkenLess" w="77145" h="21600">
                <a:moveTo>
                  <a:pt x="7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745" y="20200"/>
                </a:lnTo>
                <a:close/>
              </a:path>
              <a:path fill="lighten" w="7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200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10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809880" y="3048120"/>
            <a:ext cx="1828800" cy="53316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4055" h="21600">
                <a:moveTo>
                  <a:pt x="0" y="0"/>
                </a:moveTo>
                <a:lnTo>
                  <a:pt x="74055" y="0"/>
                </a:lnTo>
                <a:lnTo>
                  <a:pt x="74055" y="21600"/>
                </a:lnTo>
                <a:lnTo>
                  <a:pt x="0" y="21600"/>
                </a:lnTo>
                <a:close/>
              </a:path>
              <a:path fill="lightenLess" w="74055" h="21600">
                <a:moveTo>
                  <a:pt x="0" y="0"/>
                </a:moveTo>
                <a:lnTo>
                  <a:pt x="74055" y="0"/>
                </a:lnTo>
                <a:lnTo>
                  <a:pt x="72655" y="1400"/>
                </a:lnTo>
                <a:lnTo>
                  <a:pt x="1400" y="1400"/>
                </a:lnTo>
                <a:close/>
              </a:path>
              <a:path fill="darken" w="74055" h="21600">
                <a:moveTo>
                  <a:pt x="74055" y="0"/>
                </a:moveTo>
                <a:lnTo>
                  <a:pt x="74055" y="21600"/>
                </a:lnTo>
                <a:lnTo>
                  <a:pt x="72655" y="20200"/>
                </a:lnTo>
                <a:lnTo>
                  <a:pt x="72655" y="1400"/>
                </a:lnTo>
                <a:close/>
              </a:path>
              <a:path fill="darkenLess" w="74055" h="21600">
                <a:moveTo>
                  <a:pt x="74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55" y="20200"/>
                </a:lnTo>
                <a:close/>
              </a:path>
              <a:path fill="lighten" w="74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508 +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276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9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638680" y="30481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4771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899" name="">
            <a:hlinkClick r:id="" action="ppaction://hlinkshowjump?jump=nextslide"/>
          </p:cNvPr>
          <p:cNvSpPr/>
          <p:nvPr/>
        </p:nvSpPr>
        <p:spPr>
          <a:xfrm>
            <a:off x="601992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" action="ppaction://hlinkshowjump?jump=lastslide"/>
          </p:cNvPr>
          <p:cNvSpPr/>
          <p:nvPr/>
        </p:nvSpPr>
        <p:spPr>
          <a:xfrm>
            <a:off x="49528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>
            <a:hlinkClick r:id="" action="ppaction://hlinkshowjump?jump=lastslide"/>
          </p:cNvPr>
          <p:cNvSpPr/>
          <p:nvPr/>
        </p:nvSpPr>
        <p:spPr>
          <a:xfrm>
            <a:off x="4267080" y="5562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" action="ppaction://hlinkshowjump?jump=lastslide"/>
          </p:cNvPr>
          <p:cNvSpPr/>
          <p:nvPr/>
        </p:nvSpPr>
        <p:spPr>
          <a:xfrm>
            <a:off x="5638680" y="55627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190880" cy="119088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08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ele mici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0" name=""/>
          <p:cNvSpPr/>
          <p:nvPr/>
        </p:nvSpPr>
        <p:spPr>
          <a:xfrm>
            <a:off x="1371600" y="3048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048120" y="3048120"/>
            <a:ext cx="1828800" cy="53316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4055" h="21600">
                <a:moveTo>
                  <a:pt x="0" y="0"/>
                </a:moveTo>
                <a:lnTo>
                  <a:pt x="74055" y="0"/>
                </a:lnTo>
                <a:lnTo>
                  <a:pt x="74055" y="21600"/>
                </a:lnTo>
                <a:lnTo>
                  <a:pt x="0" y="21600"/>
                </a:lnTo>
                <a:close/>
              </a:path>
              <a:path fill="lightenLess" w="74055" h="21600">
                <a:moveTo>
                  <a:pt x="0" y="0"/>
                </a:moveTo>
                <a:lnTo>
                  <a:pt x="74055" y="0"/>
                </a:lnTo>
                <a:lnTo>
                  <a:pt x="72655" y="1400"/>
                </a:lnTo>
                <a:lnTo>
                  <a:pt x="1400" y="1400"/>
                </a:lnTo>
                <a:close/>
              </a:path>
              <a:path fill="darken" w="74055" h="21600">
                <a:moveTo>
                  <a:pt x="74055" y="0"/>
                </a:moveTo>
                <a:lnTo>
                  <a:pt x="74055" y="21600"/>
                </a:lnTo>
                <a:lnTo>
                  <a:pt x="72655" y="20200"/>
                </a:lnTo>
                <a:lnTo>
                  <a:pt x="72655" y="1400"/>
                </a:lnTo>
                <a:close/>
              </a:path>
              <a:path fill="darkenLess" w="74055" h="21600">
                <a:moveTo>
                  <a:pt x="74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55" y="20200"/>
                </a:lnTo>
                <a:close/>
              </a:path>
              <a:path fill="lighten" w="74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508 +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514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335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9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8769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7150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917" name="">
            <a:hlinkClick r:id="" action="ppaction://hlinkshowjump?jump=lastslide"/>
          </p:cNvPr>
          <p:cNvSpPr/>
          <p:nvPr/>
        </p:nvSpPr>
        <p:spPr>
          <a:xfrm>
            <a:off x="601992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>
            <a:hlinkClick r:id="" action="ppaction://hlinkshowjump?jump=nextslide"/>
          </p:cNvPr>
          <p:cNvSpPr/>
          <p:nvPr/>
        </p:nvSpPr>
        <p:spPr>
          <a:xfrm>
            <a:off x="49528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>
            <a:hlinkClick r:id="" action="ppaction://hlinkshowjump?jump=lastslide"/>
          </p:cNvPr>
          <p:cNvSpPr/>
          <p:nvPr/>
        </p:nvSpPr>
        <p:spPr>
          <a:xfrm>
            <a:off x="4267080" y="5562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>
            <a:hlinkClick r:id="" action="ppaction://hlinkshowjump?jump=lastslide"/>
          </p:cNvPr>
          <p:cNvSpPr/>
          <p:nvPr/>
        </p:nvSpPr>
        <p:spPr>
          <a:xfrm>
            <a:off x="5638680" y="55627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190880" cy="119088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26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1066680" y="1600200"/>
            <a:ext cx="5791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le de ordinul al II-lea !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28" name=""/>
          <p:cNvSpPr/>
          <p:nvPr/>
        </p:nvSpPr>
        <p:spPr>
          <a:xfrm>
            <a:off x="1371600" y="3048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 x 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14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88620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7242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933" name="">
            <a:hlinkClick r:id="" action="ppaction://hlinkshowjump?jump=lastslide"/>
          </p:cNvPr>
          <p:cNvSpPr/>
          <p:nvPr/>
        </p:nvSpPr>
        <p:spPr>
          <a:xfrm>
            <a:off x="601992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>
            <a:hlinkClick r:id="" action="ppaction://hlinkshowjump?jump=lastslide"/>
          </p:cNvPr>
          <p:cNvSpPr/>
          <p:nvPr/>
        </p:nvSpPr>
        <p:spPr>
          <a:xfrm>
            <a:off x="49528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" action="ppaction://hlinkshowjump?jump=nextslide"/>
          </p:cNvPr>
          <p:cNvSpPr/>
          <p:nvPr/>
        </p:nvSpPr>
        <p:spPr>
          <a:xfrm>
            <a:off x="4267080" y="5562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>
            <a:hlinkClick r:id="" action="ppaction://hlinkshowjump?jump=lastslide"/>
          </p:cNvPr>
          <p:cNvSpPr/>
          <p:nvPr/>
        </p:nvSpPr>
        <p:spPr>
          <a:xfrm>
            <a:off x="5638680" y="55627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" action="ppaction://hlinkshowjump?jump=lastslide"/>
          </p:cNvPr>
          <p:cNvSpPr/>
          <p:nvPr/>
        </p:nvSpPr>
        <p:spPr>
          <a:xfrm>
            <a:off x="30481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190880" cy="119088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43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752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812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947" name="">
            <a:hlinkClick r:id="" action="ppaction://hlinkshowjump?jump=lastslide"/>
          </p:cNvPr>
          <p:cNvSpPr/>
          <p:nvPr/>
        </p:nvSpPr>
        <p:spPr>
          <a:xfrm>
            <a:off x="601992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>
            <a:hlinkClick r:id="" action="ppaction://hlinkshowjump?jump=lastslide"/>
          </p:cNvPr>
          <p:cNvSpPr/>
          <p:nvPr/>
        </p:nvSpPr>
        <p:spPr>
          <a:xfrm>
            <a:off x="49528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>
            <a:hlinkClick r:id="" action="ppaction://hlinkshowjump?jump=lastslide"/>
          </p:cNvPr>
          <p:cNvSpPr/>
          <p:nvPr/>
        </p:nvSpPr>
        <p:spPr>
          <a:xfrm>
            <a:off x="4267080" y="5562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>
            <a:hlinkClick r:id="" action="ppaction://hlinkshowjump?jump=nextslide"/>
          </p:cNvPr>
          <p:cNvSpPr/>
          <p:nvPr/>
        </p:nvSpPr>
        <p:spPr>
          <a:xfrm>
            <a:off x="5638680" y="55627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>
            <a:hlinkClick r:id="" action="ppaction://hlinkshowjump?jump=lastslide"/>
          </p:cNvPr>
          <p:cNvSpPr/>
          <p:nvPr/>
        </p:nvSpPr>
        <p:spPr>
          <a:xfrm>
            <a:off x="2286000" y="30481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 x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>
            <a:hlinkClick r:id="" action="ppaction://hlinkshowjump?jump=lastslide"/>
          </p:cNvPr>
          <p:cNvSpPr/>
          <p:nvPr/>
        </p:nvSpPr>
        <p:spPr>
          <a:xfrm>
            <a:off x="60948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190880" cy="119088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066680" y="1600200"/>
            <a:ext cx="5791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le de ordinul al II-lea !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59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1752480" y="1447920"/>
            <a:ext cx="4724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flă rezultatul final !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1" name=""/>
          <p:cNvSpPr/>
          <p:nvPr/>
        </p:nvSpPr>
        <p:spPr>
          <a:xfrm>
            <a:off x="1752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276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964" name="">
            <a:hlinkClick r:id="" action="ppaction://hlinkshowjump?jump=lastslide"/>
          </p:cNvPr>
          <p:cNvSpPr/>
          <p:nvPr/>
        </p:nvSpPr>
        <p:spPr>
          <a:xfrm>
            <a:off x="601992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>
            <a:hlinkClick r:id="" action="ppaction://hlinkshowjump?jump=lastslide"/>
          </p:cNvPr>
          <p:cNvSpPr/>
          <p:nvPr/>
        </p:nvSpPr>
        <p:spPr>
          <a:xfrm>
            <a:off x="49528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>
            <a:hlinkClick r:id="" action="ppaction://hlinkshowjump?jump=lastslide"/>
          </p:cNvPr>
          <p:cNvSpPr/>
          <p:nvPr/>
        </p:nvSpPr>
        <p:spPr>
          <a:xfrm>
            <a:off x="4267080" y="5562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>
            <a:hlinkClick r:id="" action="ppaction://hlinkshowjump?jump=lastslide"/>
          </p:cNvPr>
          <p:cNvSpPr/>
          <p:nvPr/>
        </p:nvSpPr>
        <p:spPr>
          <a:xfrm>
            <a:off x="5638680" y="55627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>
            <a:hlinkClick r:id="" action="ppaction://hlinkshowjump?jump=nextslide"/>
          </p:cNvPr>
          <p:cNvSpPr/>
          <p:nvPr/>
        </p:nvSpPr>
        <p:spPr>
          <a:xfrm>
            <a:off x="411480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>
            <a:hlinkClick r:id="" action="ppaction://hlinkshowjump?jump=lastslide"/>
          </p:cNvPr>
          <p:cNvSpPr/>
          <p:nvPr/>
        </p:nvSpPr>
        <p:spPr>
          <a:xfrm>
            <a:off x="60948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>
            <a:hlinkClick r:id="" action="ppaction://hlinkshowjump?jump=lastslide"/>
          </p:cNvPr>
          <p:cNvSpPr/>
          <p:nvPr/>
        </p:nvSpPr>
        <p:spPr>
          <a:xfrm>
            <a:off x="2286000" y="30481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73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i rezolvat întâi parantezele mici.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5" name=""/>
          <p:cNvSpPr/>
          <p:nvPr/>
        </p:nvSpPr>
        <p:spPr>
          <a:xfrm>
            <a:off x="1752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276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>
            <a:hlinkClick r:id="" action="ppaction://hlinkshowjump?jump=lastslide"/>
          </p:cNvPr>
          <p:cNvSpPr/>
          <p:nvPr/>
        </p:nvSpPr>
        <p:spPr>
          <a:xfrm>
            <a:off x="60948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>
            <a:hlinkClick r:id="" action="ppaction://hlinkshowjump?jump=lastslide"/>
          </p:cNvPr>
          <p:cNvSpPr/>
          <p:nvPr/>
        </p:nvSpPr>
        <p:spPr>
          <a:xfrm>
            <a:off x="2286000" y="30481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" action="ppaction://hlinkshowjump?jump=lastslide"/>
          </p:cNvPr>
          <p:cNvSpPr/>
          <p:nvPr/>
        </p:nvSpPr>
        <p:spPr>
          <a:xfrm>
            <a:off x="3809880" y="30481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5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5" y="20200"/>
                </a:lnTo>
                <a:lnTo>
                  <a:pt x="23305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5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" action="ppaction://hlinkshowjump?jump=nextslide"/>
          </p:cNvPr>
          <p:cNvSpPr/>
          <p:nvPr/>
        </p:nvSpPr>
        <p:spPr>
          <a:xfrm>
            <a:off x="3809880" y="4572000"/>
            <a:ext cx="3124440" cy="1371600"/>
          </a:xfrm>
          <a:custGeom>
            <a:avLst/>
            <a:gdLst>
              <a:gd name="textAreaLeft" fmla="*/ 88920 w 3124440"/>
              <a:gd name="textAreaRight" fmla="*/ 3035520 w 312444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9197" h="21600">
                <a:moveTo>
                  <a:pt x="0" y="0"/>
                </a:moveTo>
                <a:lnTo>
                  <a:pt x="49197" y="0"/>
                </a:lnTo>
                <a:lnTo>
                  <a:pt x="49197" y="21600"/>
                </a:lnTo>
                <a:lnTo>
                  <a:pt x="0" y="21600"/>
                </a:lnTo>
                <a:close/>
              </a:path>
              <a:path fill="lightenLess" w="49197" h="21600">
                <a:moveTo>
                  <a:pt x="0" y="0"/>
                </a:moveTo>
                <a:lnTo>
                  <a:pt x="49197" y="0"/>
                </a:lnTo>
                <a:lnTo>
                  <a:pt x="47797" y="1400"/>
                </a:lnTo>
                <a:lnTo>
                  <a:pt x="1400" y="1400"/>
                </a:lnTo>
                <a:close/>
              </a:path>
              <a:path fill="darken" w="49197" h="21600">
                <a:moveTo>
                  <a:pt x="49197" y="0"/>
                </a:moveTo>
                <a:lnTo>
                  <a:pt x="49197" y="21600"/>
                </a:lnTo>
                <a:lnTo>
                  <a:pt x="47797" y="20200"/>
                </a:lnTo>
                <a:lnTo>
                  <a:pt x="47797" y="1400"/>
                </a:lnTo>
                <a:close/>
              </a:path>
              <a:path fill="darkenLess" w="49197" h="21600">
                <a:moveTo>
                  <a:pt x="49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797" y="20200"/>
                </a:lnTo>
                <a:close/>
              </a:path>
              <a:path fill="lighten" w="49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197" h="21600">
                <a:moveTo>
                  <a:pt x="17592" y="3794"/>
                </a:moveTo>
                <a:lnTo>
                  <a:pt x="31605" y="10800"/>
                </a:lnTo>
                <a:lnTo>
                  <a:pt x="17592" y="17806"/>
                </a:lnTo>
                <a:close/>
              </a:path>
            </a:pathLst>
          </a:custGeom>
          <a:solidFill>
            <a:srgbClr val="b4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Verifică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190880" cy="11908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04920" y="2362320"/>
            <a:ext cx="61722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= 9 x 981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882 x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= 8 829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– 8 82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ele mici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4952880"/>
            <a:ext cx="4724280" cy="1371600"/>
          </a:xfrm>
          <a:custGeom>
            <a:avLst/>
            <a:gdLst>
              <a:gd name="textAreaLeft" fmla="*/ 88920 w 4724280"/>
              <a:gd name="textAreaRight" fmla="*/ 4635360 w 47242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74384" h="21600">
                <a:moveTo>
                  <a:pt x="0" y="0"/>
                </a:moveTo>
                <a:lnTo>
                  <a:pt x="74384" y="0"/>
                </a:lnTo>
                <a:lnTo>
                  <a:pt x="74384" y="21600"/>
                </a:lnTo>
                <a:lnTo>
                  <a:pt x="0" y="21600"/>
                </a:lnTo>
                <a:close/>
              </a:path>
              <a:path fill="lightenLess" w="74384" h="21600">
                <a:moveTo>
                  <a:pt x="0" y="0"/>
                </a:moveTo>
                <a:lnTo>
                  <a:pt x="74384" y="0"/>
                </a:lnTo>
                <a:lnTo>
                  <a:pt x="72984" y="1400"/>
                </a:lnTo>
                <a:lnTo>
                  <a:pt x="1400" y="1400"/>
                </a:lnTo>
                <a:close/>
              </a:path>
              <a:path fill="darken" w="74384" h="21600">
                <a:moveTo>
                  <a:pt x="74384" y="0"/>
                </a:moveTo>
                <a:lnTo>
                  <a:pt x="74384" y="21600"/>
                </a:lnTo>
                <a:lnTo>
                  <a:pt x="72984" y="20200"/>
                </a:lnTo>
                <a:lnTo>
                  <a:pt x="72984" y="1400"/>
                </a:lnTo>
                <a:close/>
              </a:path>
              <a:path fill="darkenLess" w="74384" h="21600">
                <a:moveTo>
                  <a:pt x="7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84" y="20200"/>
                </a:lnTo>
                <a:close/>
              </a:path>
              <a:path fill="lighten" w="7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384" h="21600">
                <a:moveTo>
                  <a:pt x="30186" y="7493"/>
                </a:moveTo>
                <a:lnTo>
                  <a:pt x="33693" y="7493"/>
                </a:lnTo>
                <a:lnTo>
                  <a:pt x="33693" y="12828"/>
                </a:lnTo>
                <a:cubicBezTo>
                  <a:pt x="33693" y="13751"/>
                  <a:pt x="34494" y="14482"/>
                  <a:pt x="35530" y="14482"/>
                </a:cubicBezTo>
                <a:lnTo>
                  <a:pt x="37192" y="14482"/>
                </a:lnTo>
                <a:cubicBezTo>
                  <a:pt x="38228" y="14482"/>
                  <a:pt x="39029" y="13751"/>
                  <a:pt x="39029" y="12828"/>
                </a:cubicBezTo>
                <a:lnTo>
                  <a:pt x="39029" y="7493"/>
                </a:lnTo>
                <a:lnTo>
                  <a:pt x="37192" y="7493"/>
                </a:lnTo>
                <a:lnTo>
                  <a:pt x="40700" y="3985"/>
                </a:lnTo>
                <a:lnTo>
                  <a:pt x="44373" y="7493"/>
                </a:lnTo>
                <a:lnTo>
                  <a:pt x="42536" y="7493"/>
                </a:lnTo>
                <a:lnTo>
                  <a:pt x="42536" y="12828"/>
                </a:lnTo>
                <a:cubicBezTo>
                  <a:pt x="42536" y="15596"/>
                  <a:pt x="39960" y="18155"/>
                  <a:pt x="37192" y="18155"/>
                </a:cubicBezTo>
                <a:lnTo>
                  <a:pt x="35530" y="18155"/>
                </a:lnTo>
                <a:cubicBezTo>
                  <a:pt x="32762" y="18155"/>
                  <a:pt x="30186" y="15596"/>
                  <a:pt x="30186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0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a mică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3" name="">
            <a:hlinkClick r:id="" action="ppaction://hlinkshowjump?jump=lastslide"/>
          </p:cNvPr>
          <p:cNvSpPr/>
          <p:nvPr/>
        </p:nvSpPr>
        <p:spPr>
          <a:xfrm>
            <a:off x="1371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100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81480" y="3048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5053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49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840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34340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943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>
            <a:hlinkClick r:id="" action="ppaction://hlinkshowjump?jump=nextslide"/>
          </p:cNvPr>
          <p:cNvSpPr/>
          <p:nvPr/>
        </p:nvSpPr>
        <p:spPr>
          <a:xfrm>
            <a:off x="2514600" y="30481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4 x 5)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prima operaţie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002" name=""/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a mică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14" name=""/>
          <p:cNvSpPr/>
          <p:nvPr/>
        </p:nvSpPr>
        <p:spPr>
          <a:xfrm>
            <a:off x="1371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100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181480" y="3048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5053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049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840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34340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943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514600" y="30481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4 x 5)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023" name="">
            <a:hlinkClick r:id="" action="ppaction://hlinkshowjump?jump=nextslide"/>
          </p:cNvPr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>
            <a:hlinkClick r:id="" action="ppaction://hlinkshowjump?jump=lastslide"/>
          </p:cNvPr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>
            <a:hlinkClick r:id="" action="ppaction://hlinkshowjump?jump=lastslide"/>
          </p:cNvPr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>
            <a:hlinkClick r:id="" action="ppaction://hlinkshowjump?jump=lastslide"/>
          </p:cNvPr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>
            <a:hlinkClick r:id="" action="ppaction://hlinkshowjump?jump=lastslide"/>
          </p:cNvPr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030" name="">
            <a:hlinkClick r:id="" action="ppaction://hlinkshowjump?jump=lastslide"/>
          </p:cNvPr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a mică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5" name=""/>
          <p:cNvSpPr/>
          <p:nvPr/>
        </p:nvSpPr>
        <p:spPr>
          <a:xfrm>
            <a:off x="1371600" y="3048120"/>
            <a:ext cx="1676520" cy="533160"/>
          </a:xfrm>
          <a:custGeom>
            <a:avLst/>
            <a:gdLst>
              <a:gd name="textAreaLeft" fmla="*/ 34560 w 1676520"/>
              <a:gd name="textAreaRight" fmla="*/ 1641960 w 1676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7890" h="21600">
                <a:moveTo>
                  <a:pt x="0" y="0"/>
                </a:moveTo>
                <a:lnTo>
                  <a:pt x="67890" y="0"/>
                </a:lnTo>
                <a:lnTo>
                  <a:pt x="67890" y="21600"/>
                </a:lnTo>
                <a:lnTo>
                  <a:pt x="0" y="21600"/>
                </a:lnTo>
                <a:close/>
              </a:path>
              <a:path fill="lightenLess" w="67890" h="21600">
                <a:moveTo>
                  <a:pt x="0" y="0"/>
                </a:moveTo>
                <a:lnTo>
                  <a:pt x="67890" y="0"/>
                </a:lnTo>
                <a:lnTo>
                  <a:pt x="66490" y="1400"/>
                </a:lnTo>
                <a:lnTo>
                  <a:pt x="1400" y="1400"/>
                </a:lnTo>
                <a:close/>
              </a:path>
              <a:path fill="darken" w="67890" h="21600">
                <a:moveTo>
                  <a:pt x="67890" y="0"/>
                </a:moveTo>
                <a:lnTo>
                  <a:pt x="67890" y="21600"/>
                </a:lnTo>
                <a:lnTo>
                  <a:pt x="66490" y="20200"/>
                </a:lnTo>
                <a:lnTo>
                  <a:pt x="66490" y="1400"/>
                </a:lnTo>
                <a:close/>
              </a:path>
              <a:path fill="darkenLess" w="67890" h="21600">
                <a:moveTo>
                  <a:pt x="67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90" y="20200"/>
                </a:lnTo>
                <a:close/>
              </a:path>
              <a:path fill="lighten" w="67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100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 3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724280" y="3048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0481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049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840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88620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4864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043" name="">
            <a:hlinkClick r:id="" action="ppaction://hlinkshowjump?jump=lastslide"/>
          </p:cNvPr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>
            <a:hlinkClick r:id="" action="ppaction://hlinkshowjump?jump=nextslide"/>
          </p:cNvPr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" action="ppaction://hlinkshowjump?jump=lastslide"/>
          </p:cNvPr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>
            <a:hlinkClick r:id="" action="ppaction://hlinkshowjump?jump=lastslide"/>
          </p:cNvPr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>
            <a:hlinkClick r:id="" action="ppaction://hlinkshowjump?jump=lastslide"/>
          </p:cNvPr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050" name="">
            <a:hlinkClick r:id="" action="ppaction://hlinkshowjump?jump=lastslide"/>
          </p:cNvPr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Într-un exerciţiu cu operaţii de ordine diferite, fără paranteze, se rezolvă în prima etapă operaţiile de ordinul al II-lea, de la stânga la dreapta, apoi se efectuează operaţiile de ordinul I, tot în ordinea scrieri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39 + </a:t>
            </a:r>
            <a:r>
              <a:rPr b="1" lang="ro-RO" sz="2600" spc="-1" strike="noStrike" u="sng">
                <a:solidFill>
                  <a:srgbClr val="330066"/>
                </a:solidFill>
                <a:uFillTx/>
                <a:latin typeface="Arial"/>
              </a:rPr>
              <a:t>55 : 5</a:t>
            </a: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 = 39 + 11 = 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 u="sng">
                <a:solidFill>
                  <a:srgbClr val="330066"/>
                </a:solidFill>
                <a:uFillTx/>
                <a:latin typeface="Arial"/>
              </a:rPr>
              <a:t>18 x 3</a:t>
            </a: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 + </a:t>
            </a:r>
            <a:r>
              <a:rPr b="1" lang="ro-RO" sz="2600" spc="-1" strike="noStrike" u="sng">
                <a:solidFill>
                  <a:srgbClr val="330066"/>
                </a:solidFill>
                <a:uFillTx/>
                <a:latin typeface="Arial"/>
              </a:rPr>
              <a:t>92 : 2</a:t>
            </a: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 = 54 + 46 =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 u="sng">
                <a:solidFill>
                  <a:srgbClr val="330066"/>
                </a:solidFill>
                <a:uFillTx/>
                <a:latin typeface="Arial"/>
              </a:rPr>
              <a:t>200 x 3</a:t>
            </a: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 – </a:t>
            </a:r>
            <a:r>
              <a:rPr b="1" lang="ro-RO" sz="2600" spc="-1" strike="noStrike" u="sng">
                <a:solidFill>
                  <a:srgbClr val="330066"/>
                </a:solidFill>
                <a:uFillTx/>
                <a:latin typeface="Arial"/>
              </a:rPr>
              <a:t>968 : 4</a:t>
            </a: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 + 127 = 600 – 242 + 127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                                          </a:t>
            </a: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= 358 + 127 = 48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7696080" y="5562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7493"/>
                </a:moveTo>
                <a:lnTo>
                  <a:pt x="10000" y="7493"/>
                </a:lnTo>
                <a:lnTo>
                  <a:pt x="10000" y="12828"/>
                </a:lnTo>
                <a:cubicBezTo>
                  <a:pt x="10000" y="13751"/>
                  <a:pt x="10801" y="14482"/>
                  <a:pt x="11837" y="14482"/>
                </a:cubicBezTo>
                <a:lnTo>
                  <a:pt x="13499" y="14482"/>
                </a:lnTo>
                <a:cubicBezTo>
                  <a:pt x="14535" y="14482"/>
                  <a:pt x="15335" y="13751"/>
                  <a:pt x="15335" y="12828"/>
                </a:cubicBezTo>
                <a:lnTo>
                  <a:pt x="15335" y="7493"/>
                </a:lnTo>
                <a:lnTo>
                  <a:pt x="13499" y="7493"/>
                </a:lnTo>
                <a:lnTo>
                  <a:pt x="17007" y="3985"/>
                </a:lnTo>
                <a:lnTo>
                  <a:pt x="20679" y="7493"/>
                </a:lnTo>
                <a:lnTo>
                  <a:pt x="18843" y="7493"/>
                </a:lnTo>
                <a:lnTo>
                  <a:pt x="18843" y="12828"/>
                </a:lnTo>
                <a:cubicBezTo>
                  <a:pt x="18843" y="15596"/>
                  <a:pt x="16267" y="18155"/>
                  <a:pt x="13499" y="18155"/>
                </a:cubicBezTo>
                <a:lnTo>
                  <a:pt x="11837" y="18155"/>
                </a:lnTo>
                <a:cubicBezTo>
                  <a:pt x="9069" y="18155"/>
                  <a:pt x="6492" y="15596"/>
                  <a:pt x="6492" y="12828"/>
                </a:cubicBezTo>
                <a:close/>
              </a:path>
            </a:pathLst>
          </a:custGeom>
          <a:gradFill rotWithShape="0">
            <a:gsLst>
              <a:gs pos="0">
                <a:srgbClr val="54ac7c"/>
              </a:gs>
              <a:gs pos="100000">
                <a:srgbClr val="52a879"/>
              </a:gs>
            </a:gsLst>
            <a:lin ang="5400000"/>
          </a:gra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838080" y="160020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operaţia de ordinul al II-lea !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5" name=""/>
          <p:cNvSpPr/>
          <p:nvPr/>
        </p:nvSpPr>
        <p:spPr>
          <a:xfrm>
            <a:off x="3429000" y="3048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447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680 : 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 840 –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5909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1911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062" name="">
            <a:hlinkClick r:id="" action="ppaction://hlinkshowjump?jump=lastslide"/>
          </p:cNvPr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>
            <a:hlinkClick r:id="" action="ppaction://hlinkshowjump?jump=lastslide"/>
          </p:cNvPr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" action="ppaction://hlinkshowjump?jump=lastslide"/>
          </p:cNvPr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>
            <a:hlinkClick r:id="" action="ppaction://hlinkshowjump?jump=lastslide"/>
          </p:cNvPr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" action="ppaction://hlinkshowjump?jump=lastslide"/>
          </p:cNvPr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069" name="">
            <a:hlinkClick r:id="" action="ppaction://hlinkshowjump?jump=nextslide"/>
          </p:cNvPr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a mică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4" name=""/>
          <p:cNvSpPr/>
          <p:nvPr/>
        </p:nvSpPr>
        <p:spPr>
          <a:xfrm>
            <a:off x="2895480" y="3048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04920" y="3048120"/>
            <a:ext cx="1752480" cy="53316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0965" h="21600">
                <a:moveTo>
                  <a:pt x="0" y="0"/>
                </a:moveTo>
                <a:lnTo>
                  <a:pt x="70965" y="0"/>
                </a:lnTo>
                <a:lnTo>
                  <a:pt x="70965" y="21600"/>
                </a:lnTo>
                <a:lnTo>
                  <a:pt x="0" y="21600"/>
                </a:lnTo>
                <a:close/>
              </a:path>
              <a:path fill="lightenLess" w="70965" h="21600">
                <a:moveTo>
                  <a:pt x="0" y="0"/>
                </a:moveTo>
                <a:lnTo>
                  <a:pt x="70965" y="0"/>
                </a:lnTo>
                <a:lnTo>
                  <a:pt x="69565" y="1400"/>
                </a:lnTo>
                <a:lnTo>
                  <a:pt x="1400" y="1400"/>
                </a:lnTo>
                <a:close/>
              </a:path>
              <a:path fill="darken" w="70965" h="21600">
                <a:moveTo>
                  <a:pt x="70965" y="0"/>
                </a:moveTo>
                <a:lnTo>
                  <a:pt x="70965" y="21600"/>
                </a:lnTo>
                <a:lnTo>
                  <a:pt x="69565" y="20200"/>
                </a:lnTo>
                <a:lnTo>
                  <a:pt x="69565" y="1400"/>
                </a:lnTo>
                <a:close/>
              </a:path>
              <a:path fill="darkenLess" w="70965" h="21600">
                <a:moveTo>
                  <a:pt x="70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65" y="20200"/>
                </a:lnTo>
                <a:close/>
              </a:path>
              <a:path fill="lighten" w="70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 840 – 170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05740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657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080" name="">
            <a:hlinkClick r:id="" action="ppaction://hlinkshowjump?jump=lastslide"/>
          </p:cNvPr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>
            <a:hlinkClick r:id="" action="ppaction://hlinkshowjump?jump=lastslide"/>
          </p:cNvPr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>
            <a:hlinkClick r:id="" action="ppaction://hlinkshowjump?jump=lastslide"/>
          </p:cNvPr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>
            <a:hlinkClick r:id="" action="ppaction://hlinkshowjump?jump=nextslide"/>
          </p:cNvPr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>
            <a:hlinkClick r:id="" action="ppaction://hlinkshowjump?jump=lastslide"/>
          </p:cNvPr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087" name="">
            <a:hlinkClick r:id="" action="ppaction://hlinkshowjump?jump=lastslide"/>
          </p:cNvPr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91" name=""/>
          <p:cNvSpPr/>
          <p:nvPr/>
        </p:nvSpPr>
        <p:spPr>
          <a:xfrm>
            <a:off x="1828800" y="3048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57200" y="30481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670 :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5909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096" name="">
            <a:hlinkClick r:id="" action="ppaction://hlinkshowjump?jump=lastslide"/>
          </p:cNvPr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" action="ppaction://hlinkshowjump?jump=lastslide"/>
          </p:cNvPr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>
            <a:hlinkClick r:id="" action="ppaction://hlinkshowjump?jump=lastslide"/>
          </p:cNvPr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>
            <a:hlinkClick r:id="" action="ppaction://hlinkshowjump?jump=lastslide"/>
          </p:cNvPr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>
            <a:hlinkClick r:id="" action="ppaction://hlinkshowjump?jump=nextslide"/>
          </p:cNvPr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>
            <a:hlinkClick r:id="" action="ppaction://hlinkshowjump?jump=lastslide"/>
          </p:cNvPr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103" name="">
            <a:hlinkClick r:id="" action="ppaction://hlinkshowjump?jump=lastslide"/>
          </p:cNvPr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838080" y="160020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operaţia de ordinul al II-lea !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flă rezultatul final !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9" name=""/>
          <p:cNvSpPr/>
          <p:nvPr/>
        </p:nvSpPr>
        <p:spPr>
          <a:xfrm>
            <a:off x="533520" y="3048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 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752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113" name="">
            <a:hlinkClick r:id="" action="ppaction://hlinkshowjump?jump=lastslide"/>
          </p:cNvPr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>
            <a:hlinkClick r:id="" action="ppaction://hlinkshowjump?jump=lastslide"/>
          </p:cNvPr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>
            <a:hlinkClick r:id="" action="ppaction://hlinkshowjump?jump=lastslide"/>
          </p:cNvPr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>
            <a:hlinkClick r:id="" action="ppaction://hlinkshowjump?jump=lastslide"/>
          </p:cNvPr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>
            <a:hlinkClick r:id="" action="ppaction://hlinkshowjump?jump=nextslide"/>
          </p:cNvPr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120" name="">
            <a:hlinkClick r:id="" action="ppaction://hlinkshowjump?jump=lastslide"/>
          </p:cNvPr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i rezolvat întâi paranteza mică .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5" name=""/>
          <p:cNvSpPr/>
          <p:nvPr/>
        </p:nvSpPr>
        <p:spPr>
          <a:xfrm>
            <a:off x="533520" y="3048120"/>
            <a:ext cx="1828800" cy="53316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4055" h="21600">
                <a:moveTo>
                  <a:pt x="0" y="0"/>
                </a:moveTo>
                <a:lnTo>
                  <a:pt x="74055" y="0"/>
                </a:lnTo>
                <a:lnTo>
                  <a:pt x="74055" y="21600"/>
                </a:lnTo>
                <a:lnTo>
                  <a:pt x="0" y="21600"/>
                </a:lnTo>
                <a:close/>
              </a:path>
              <a:path fill="lightenLess" w="74055" h="21600">
                <a:moveTo>
                  <a:pt x="0" y="0"/>
                </a:moveTo>
                <a:lnTo>
                  <a:pt x="74055" y="0"/>
                </a:lnTo>
                <a:lnTo>
                  <a:pt x="72655" y="1400"/>
                </a:lnTo>
                <a:lnTo>
                  <a:pt x="1400" y="1400"/>
                </a:lnTo>
                <a:close/>
              </a:path>
              <a:path fill="darken" w="74055" h="21600">
                <a:moveTo>
                  <a:pt x="74055" y="0"/>
                </a:moveTo>
                <a:lnTo>
                  <a:pt x="74055" y="21600"/>
                </a:lnTo>
                <a:lnTo>
                  <a:pt x="72655" y="20200"/>
                </a:lnTo>
                <a:lnTo>
                  <a:pt x="72655" y="1400"/>
                </a:lnTo>
                <a:close/>
              </a:path>
              <a:path fill="darkenLess" w="74055" h="21600">
                <a:moveTo>
                  <a:pt x="74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55" y="20200"/>
                </a:lnTo>
                <a:close/>
              </a:path>
              <a:path fill="lighten" w="74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 + 33 =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128" name="">
            <a:hlinkClick r:id="" action="ppaction://hlinkshowjump?jump=nextslide"/>
          </p:cNvPr>
          <p:cNvSpPr/>
          <p:nvPr/>
        </p:nvSpPr>
        <p:spPr>
          <a:xfrm>
            <a:off x="3809880" y="4572000"/>
            <a:ext cx="3124440" cy="1371600"/>
          </a:xfrm>
          <a:custGeom>
            <a:avLst/>
            <a:gdLst>
              <a:gd name="textAreaLeft" fmla="*/ 88920 w 3124440"/>
              <a:gd name="textAreaRight" fmla="*/ 3035520 w 312444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9197" h="21600">
                <a:moveTo>
                  <a:pt x="0" y="0"/>
                </a:moveTo>
                <a:lnTo>
                  <a:pt x="49197" y="0"/>
                </a:lnTo>
                <a:lnTo>
                  <a:pt x="49197" y="21600"/>
                </a:lnTo>
                <a:lnTo>
                  <a:pt x="0" y="21600"/>
                </a:lnTo>
                <a:close/>
              </a:path>
              <a:path fill="lightenLess" w="49197" h="21600">
                <a:moveTo>
                  <a:pt x="0" y="0"/>
                </a:moveTo>
                <a:lnTo>
                  <a:pt x="49197" y="0"/>
                </a:lnTo>
                <a:lnTo>
                  <a:pt x="47797" y="1400"/>
                </a:lnTo>
                <a:lnTo>
                  <a:pt x="1400" y="1400"/>
                </a:lnTo>
                <a:close/>
              </a:path>
              <a:path fill="darken" w="49197" h="21600">
                <a:moveTo>
                  <a:pt x="49197" y="0"/>
                </a:moveTo>
                <a:lnTo>
                  <a:pt x="49197" y="21600"/>
                </a:lnTo>
                <a:lnTo>
                  <a:pt x="47797" y="20200"/>
                </a:lnTo>
                <a:lnTo>
                  <a:pt x="47797" y="1400"/>
                </a:lnTo>
                <a:close/>
              </a:path>
              <a:path fill="darkenLess" w="49197" h="21600">
                <a:moveTo>
                  <a:pt x="49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797" y="20200"/>
                </a:lnTo>
                <a:close/>
              </a:path>
              <a:path fill="lighten" w="49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197" h="21600">
                <a:moveTo>
                  <a:pt x="17592" y="3794"/>
                </a:moveTo>
                <a:lnTo>
                  <a:pt x="31605" y="10800"/>
                </a:lnTo>
                <a:lnTo>
                  <a:pt x="17592" y="17806"/>
                </a:lnTo>
                <a:close/>
              </a:path>
            </a:pathLst>
          </a:custGeom>
          <a:solidFill>
            <a:srgbClr val="b4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Verifică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28600" y="2286000"/>
            <a:ext cx="670572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</a:t>
            </a:r>
            <a:r>
              <a:rPr b="1" lang="ro-RO" sz="2800" spc="-1" strike="noStrike" u="sng">
                <a:solidFill>
                  <a:srgbClr val="330066"/>
                </a:solidFill>
                <a:uFillTx/>
                <a:latin typeface="Arial"/>
              </a:rPr>
              <a:t>64 x 5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840 – (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 000 – 320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) :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: 10 + 3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= (840 – 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80 : 4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: 10 + 3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= (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40 – 170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: 10 + 3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70 : 10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+ 3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= 67 + 3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7696080" y="54864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3581280" y="5181480"/>
            <a:ext cx="3429000" cy="1067040"/>
          </a:xfrm>
          <a:custGeom>
            <a:avLst/>
            <a:gdLst>
              <a:gd name="textAreaLeft" fmla="*/ 69120 w 3429000"/>
              <a:gd name="textAreaRight" fmla="*/ 3359880 w 3429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69397" h="21600">
                <a:moveTo>
                  <a:pt x="0" y="0"/>
                </a:moveTo>
                <a:lnTo>
                  <a:pt x="69397" y="0"/>
                </a:lnTo>
                <a:lnTo>
                  <a:pt x="69397" y="21600"/>
                </a:lnTo>
                <a:lnTo>
                  <a:pt x="0" y="21600"/>
                </a:lnTo>
                <a:close/>
              </a:path>
              <a:path fill="lightenLess" w="69397" h="21600">
                <a:moveTo>
                  <a:pt x="0" y="0"/>
                </a:moveTo>
                <a:lnTo>
                  <a:pt x="69397" y="0"/>
                </a:lnTo>
                <a:lnTo>
                  <a:pt x="67997" y="1400"/>
                </a:lnTo>
                <a:lnTo>
                  <a:pt x="1400" y="1400"/>
                </a:lnTo>
                <a:close/>
              </a:path>
              <a:path fill="darken" w="69397" h="21600">
                <a:moveTo>
                  <a:pt x="69397" y="0"/>
                </a:moveTo>
                <a:lnTo>
                  <a:pt x="69397" y="21600"/>
                </a:lnTo>
                <a:lnTo>
                  <a:pt x="67997" y="20200"/>
                </a:lnTo>
                <a:lnTo>
                  <a:pt x="67997" y="1400"/>
                </a:lnTo>
                <a:close/>
              </a:path>
              <a:path fill="darkenLess" w="69397" h="21600">
                <a:moveTo>
                  <a:pt x="69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97" y="20200"/>
                </a:lnTo>
                <a:close/>
              </a:path>
              <a:path fill="lighten" w="69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397" h="21600">
                <a:moveTo>
                  <a:pt x="27692" y="7493"/>
                </a:moveTo>
                <a:lnTo>
                  <a:pt x="31200" y="7493"/>
                </a:lnTo>
                <a:lnTo>
                  <a:pt x="31200" y="12828"/>
                </a:lnTo>
                <a:cubicBezTo>
                  <a:pt x="31200" y="13751"/>
                  <a:pt x="32000" y="14482"/>
                  <a:pt x="33036" y="14482"/>
                </a:cubicBezTo>
                <a:lnTo>
                  <a:pt x="34698" y="14482"/>
                </a:lnTo>
                <a:cubicBezTo>
                  <a:pt x="35734" y="14482"/>
                  <a:pt x="36535" y="13751"/>
                  <a:pt x="36535" y="12828"/>
                </a:cubicBezTo>
                <a:lnTo>
                  <a:pt x="36535" y="7493"/>
                </a:lnTo>
                <a:lnTo>
                  <a:pt x="34698" y="7493"/>
                </a:lnTo>
                <a:lnTo>
                  <a:pt x="38206" y="3985"/>
                </a:lnTo>
                <a:lnTo>
                  <a:pt x="41879" y="7493"/>
                </a:lnTo>
                <a:lnTo>
                  <a:pt x="40042" y="7493"/>
                </a:lnTo>
                <a:lnTo>
                  <a:pt x="40042" y="12828"/>
                </a:lnTo>
                <a:cubicBezTo>
                  <a:pt x="40042" y="15596"/>
                  <a:pt x="37466" y="18155"/>
                  <a:pt x="34698" y="18155"/>
                </a:cubicBezTo>
                <a:lnTo>
                  <a:pt x="33036" y="18155"/>
                </a:lnTo>
                <a:cubicBezTo>
                  <a:pt x="30268" y="18155"/>
                  <a:pt x="27692" y="15596"/>
                  <a:pt x="27692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64771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Fişă de muncă independentă pentru el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Conţine exerciţiile propuse în suportul lecţ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1. Operaţii de acelaşi ordin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)  24 548 + 8 657 – 14 36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)  804 507 – 362 419 + 58 55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)  2 475 + 1 525 – 3 64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)  966 : 7 x 3 : 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)  435 x 6 : 5 : 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2. Operaţii de ordine diferit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)  3030 - 2820 + 47 x 7 - 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2 : 8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)  736 : 4 + 807 x 6 - 324 x 9 + 12 24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3. Operaţii cu parantez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)  9 x (2 000 – 1 019) – (508 + 374) x 1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840 – (1 000 – 64 x 5) :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: 10 + 33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" y="5943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opiaţi această fişă; salvaţi-o ca document Word. Elevii vor calcula pe fişa individual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entru a reveni la suportul electronic al lecţiei fă “clic” pe Dexter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1"/>
          <a:stretch/>
        </p:blipFill>
        <p:spPr>
          <a:xfrm>
            <a:off x="7162920" y="2438280"/>
            <a:ext cx="1704960" cy="1440000"/>
          </a:xfrm>
          <a:prstGeom prst="rect">
            <a:avLst/>
          </a:prstGeom>
          <a:ln w="0">
            <a:noFill/>
          </a:ln>
        </p:spPr>
      </p:pic>
      <p:sp>
        <p:nvSpPr>
          <p:cNvPr id="1138" name="">
            <a:hlinkClick r:id="rId2" action="ppaction://hlinksldjump"/>
          </p:cNvPr>
          <p:cNvSpPr/>
          <p:nvPr/>
        </p:nvSpPr>
        <p:spPr>
          <a:xfrm>
            <a:off x="7162920" y="4495680"/>
            <a:ext cx="1600200" cy="1295640"/>
          </a:xfrm>
          <a:custGeom>
            <a:avLst/>
            <a:gdLst>
              <a:gd name="textAreaLeft" fmla="*/ 83880 w 1600200"/>
              <a:gd name="textAreaRight" fmla="*/ 1516320 w 16002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6676" h="21600">
                <a:moveTo>
                  <a:pt x="0" y="0"/>
                </a:moveTo>
                <a:lnTo>
                  <a:pt x="26676" y="0"/>
                </a:lnTo>
                <a:lnTo>
                  <a:pt x="26676" y="21600"/>
                </a:lnTo>
                <a:lnTo>
                  <a:pt x="0" y="21600"/>
                </a:lnTo>
                <a:close/>
              </a:path>
              <a:path fill="lightenLess" w="26676" h="21600">
                <a:moveTo>
                  <a:pt x="0" y="0"/>
                </a:moveTo>
                <a:lnTo>
                  <a:pt x="26676" y="0"/>
                </a:lnTo>
                <a:lnTo>
                  <a:pt x="25276" y="1400"/>
                </a:lnTo>
                <a:lnTo>
                  <a:pt x="1400" y="1400"/>
                </a:lnTo>
                <a:close/>
              </a:path>
              <a:path fill="darken" w="26676" h="21600">
                <a:moveTo>
                  <a:pt x="26676" y="0"/>
                </a:moveTo>
                <a:lnTo>
                  <a:pt x="26676" y="21600"/>
                </a:lnTo>
                <a:lnTo>
                  <a:pt x="25276" y="20200"/>
                </a:lnTo>
                <a:lnTo>
                  <a:pt x="25276" y="1400"/>
                </a:lnTo>
                <a:close/>
              </a:path>
              <a:path fill="darkenLess" w="26676" h="21600">
                <a:moveTo>
                  <a:pt x="2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76" y="20200"/>
                </a:lnTo>
                <a:close/>
              </a:path>
              <a:path fill="lighten" w="2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330066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                  </a:t>
            </a:r>
            <a:r>
              <a:rPr b="1" lang="ro-RO" sz="1000" spc="-1" strike="noStrike">
                <a:solidFill>
                  <a:srgbClr val="330066"/>
                </a:solidFill>
                <a:latin typeface="Arial"/>
              </a:rPr>
              <a:t>Revenire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8229600" y="632448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330066"/>
                </a:solidFill>
                <a:latin typeface="Imprint MT Shadow"/>
              </a:rPr>
              <a:t>G r e ş e a l ă  !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990720" y="2514600"/>
            <a:ext cx="1752480" cy="1676520"/>
          </a:xfrm>
          <a:custGeom>
            <a:avLst/>
            <a:gdLst>
              <a:gd name="textAreaLeft" fmla="*/ 108360 w 1752480"/>
              <a:gd name="textAreaRight" fmla="*/ 1644120 w 17524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78" h="21600">
                <a:moveTo>
                  <a:pt x="0" y="0"/>
                </a:moveTo>
                <a:lnTo>
                  <a:pt x="22578" y="0"/>
                </a:lnTo>
                <a:lnTo>
                  <a:pt x="22578" y="21600"/>
                </a:lnTo>
                <a:lnTo>
                  <a:pt x="0" y="21600"/>
                </a:lnTo>
                <a:close/>
              </a:path>
              <a:path fill="lightenLess" w="22578" h="21600">
                <a:moveTo>
                  <a:pt x="0" y="0"/>
                </a:moveTo>
                <a:lnTo>
                  <a:pt x="22578" y="0"/>
                </a:lnTo>
                <a:lnTo>
                  <a:pt x="21179" y="1400"/>
                </a:lnTo>
                <a:lnTo>
                  <a:pt x="1400" y="1400"/>
                </a:lnTo>
                <a:close/>
              </a:path>
              <a:path fill="darken" w="22578" h="21600">
                <a:moveTo>
                  <a:pt x="22578" y="0"/>
                </a:moveTo>
                <a:lnTo>
                  <a:pt x="22578" y="21600"/>
                </a:lnTo>
                <a:lnTo>
                  <a:pt x="21179" y="20200"/>
                </a:lnTo>
                <a:lnTo>
                  <a:pt x="21179" y="1400"/>
                </a:lnTo>
                <a:close/>
              </a:path>
              <a:path fill="darkenLess" w="22578" h="21600">
                <a:moveTo>
                  <a:pt x="22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79" y="20200"/>
                </a:lnTo>
                <a:close/>
              </a:path>
              <a:path fill="lighten" w="22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>
            <a:hlinkClick r:id="" action="ppaction://hlinkshowjump?jump=previousslide"/>
          </p:cNvPr>
          <p:cNvSpPr/>
          <p:nvPr/>
        </p:nvSpPr>
        <p:spPr>
          <a:xfrm>
            <a:off x="4191120" y="4267080"/>
            <a:ext cx="1295280" cy="137160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371600"/>
              <a:gd name="textAreaBottom" fmla="*/ 1287720 h 1371600"/>
            </a:gdLst>
            <a:ahLst/>
            <a:rect l="textAreaLeft" t="textAreaTop" r="textAreaRight" b="textAreaBottom"/>
            <a:pathLst>
              <a:path w="21600" h="22872">
                <a:moveTo>
                  <a:pt x="0" y="0"/>
                </a:moveTo>
                <a:lnTo>
                  <a:pt x="21600" y="0"/>
                </a:lnTo>
                <a:lnTo>
                  <a:pt x="21600" y="22872"/>
                </a:lnTo>
                <a:lnTo>
                  <a:pt x="0" y="22872"/>
                </a:lnTo>
                <a:close/>
              </a:path>
              <a:path fill="lightenLess" w="21600" h="228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72">
                <a:moveTo>
                  <a:pt x="21600" y="0"/>
                </a:moveTo>
                <a:lnTo>
                  <a:pt x="21600" y="22872"/>
                </a:lnTo>
                <a:lnTo>
                  <a:pt x="20200" y="21472"/>
                </a:lnTo>
                <a:lnTo>
                  <a:pt x="20200" y="1400"/>
                </a:lnTo>
                <a:close/>
              </a:path>
              <a:path fill="darkenLess" w="21600" h="22872">
                <a:moveTo>
                  <a:pt x="21600" y="22872"/>
                </a:moveTo>
                <a:lnTo>
                  <a:pt x="0" y="22872"/>
                </a:lnTo>
                <a:lnTo>
                  <a:pt x="1400" y="21472"/>
                </a:lnTo>
                <a:lnTo>
                  <a:pt x="20200" y="21472"/>
                </a:lnTo>
                <a:close/>
              </a:path>
              <a:path fill="lighten" w="21600" h="22872">
                <a:moveTo>
                  <a:pt x="0" y="228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7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248520" y="25146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5791320" y="5105520"/>
            <a:ext cx="2590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Mai încearcă 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228600" y="4495680"/>
            <a:ext cx="34480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ii mai atent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3048120" y="2666880"/>
            <a:ext cx="25905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ocoteşte corect 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Într-un exerciţiu cu paranteze se rezolvă întâi parantezele mici, apoi operaţiile din parantezele mar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acă este posibil se efectuează în aceleaşi etape şi calculele necuprinse în parante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1500 – (375 + </a:t>
            </a:r>
            <a:r>
              <a:rPr b="1" lang="ro-RO" sz="2000" spc="-1" strike="noStrike" u="sng">
                <a:solidFill>
                  <a:srgbClr val="330066"/>
                </a:solidFill>
                <a:uFillTx/>
                <a:latin typeface="Arial"/>
                <a:ea typeface="Arial"/>
              </a:rPr>
              <a:t>375 x 2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 ) = 1500 – (</a:t>
            </a:r>
            <a:r>
              <a:rPr b="1" lang="ro-RO" sz="2000" spc="-1" strike="noStrike" u="sng">
                <a:solidFill>
                  <a:srgbClr val="330066"/>
                </a:solidFill>
                <a:uFillTx/>
                <a:latin typeface="Arial"/>
                <a:ea typeface="Arial"/>
              </a:rPr>
              <a:t>375 + 750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) =                                   = 1500 – 1120 = 3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960 –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  <a:ea typeface="Arial"/>
              </a:rPr>
              <a:t>[</a:t>
            </a:r>
            <a:r>
              <a:rPr b="1" lang="ro-RO" sz="2000" spc="-1" strike="noStrike" u="sng">
                <a:solidFill>
                  <a:srgbClr val="330066"/>
                </a:solidFill>
                <a:uFillTx/>
                <a:latin typeface="Arial"/>
                <a:ea typeface="Arial"/>
              </a:rPr>
              <a:t>960 : 4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 + (</a:t>
            </a:r>
            <a:r>
              <a:rPr b="1" lang="ro-RO" sz="2000" spc="-1" strike="noStrike" u="sng">
                <a:solidFill>
                  <a:srgbClr val="330066"/>
                </a:solidFill>
                <a:uFillTx/>
                <a:latin typeface="Arial"/>
                <a:ea typeface="Arial"/>
              </a:rPr>
              <a:t>960 : 4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 + 100)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  <a:ea typeface="Arial"/>
              </a:rPr>
              <a:t>]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 =                                                       = 960 –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  <a:ea typeface="Arial"/>
              </a:rPr>
              <a:t>[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240 + (</a:t>
            </a:r>
            <a:r>
              <a:rPr b="1" lang="ro-RO" sz="2000" spc="-1" strike="noStrike" u="sng">
                <a:solidFill>
                  <a:srgbClr val="330066"/>
                </a:solidFill>
                <a:uFillTx/>
                <a:latin typeface="Arial"/>
                <a:ea typeface="Arial"/>
              </a:rPr>
              <a:t>240 + 100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)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  <a:ea typeface="Arial"/>
              </a:rPr>
              <a:t>]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 =                                                                           = 960 – (</a:t>
            </a:r>
            <a:r>
              <a:rPr b="1" lang="ro-RO" sz="2000" spc="-1" strike="noStrike" u="sng">
                <a:solidFill>
                  <a:srgbClr val="330066"/>
                </a:solidFill>
                <a:uFillTx/>
                <a:latin typeface="Arial"/>
                <a:ea typeface="Arial"/>
              </a:rPr>
              <a:t>240 + 340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) =                                                                          = 960 – 580 =                                                                                       = 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6019920" y="5562720"/>
            <a:ext cx="2819160" cy="914400"/>
          </a:xfrm>
          <a:custGeom>
            <a:avLst/>
            <a:gdLst>
              <a:gd name="textAreaLeft" fmla="*/ 59040 w 2819160"/>
              <a:gd name="textAreaRight" fmla="*/ 2760120 w 2819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6577" h="21600">
                <a:moveTo>
                  <a:pt x="0" y="0"/>
                </a:moveTo>
                <a:lnTo>
                  <a:pt x="66577" y="0"/>
                </a:lnTo>
                <a:lnTo>
                  <a:pt x="66577" y="21600"/>
                </a:lnTo>
                <a:lnTo>
                  <a:pt x="0" y="21600"/>
                </a:lnTo>
                <a:close/>
              </a:path>
              <a:path fill="lightenLess" w="66577" h="21600">
                <a:moveTo>
                  <a:pt x="0" y="0"/>
                </a:moveTo>
                <a:lnTo>
                  <a:pt x="66577" y="0"/>
                </a:lnTo>
                <a:lnTo>
                  <a:pt x="65177" y="1400"/>
                </a:lnTo>
                <a:lnTo>
                  <a:pt x="1400" y="1400"/>
                </a:lnTo>
                <a:close/>
              </a:path>
              <a:path fill="darken" w="66577" h="21600">
                <a:moveTo>
                  <a:pt x="66577" y="0"/>
                </a:moveTo>
                <a:lnTo>
                  <a:pt x="66577" y="21600"/>
                </a:lnTo>
                <a:lnTo>
                  <a:pt x="65177" y="20200"/>
                </a:lnTo>
                <a:lnTo>
                  <a:pt x="65177" y="1400"/>
                </a:lnTo>
                <a:close/>
              </a:path>
              <a:path fill="darkenLess" w="66577" h="21600">
                <a:moveTo>
                  <a:pt x="6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177" y="20200"/>
                </a:lnTo>
                <a:close/>
              </a:path>
              <a:path fill="lighten" w="6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ecc92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0066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Exerciţ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2209680" y="3124080"/>
            <a:ext cx="4038840" cy="914400"/>
          </a:xfrm>
          <a:custGeom>
            <a:avLst/>
            <a:gdLst>
              <a:gd name="textAreaLeft" fmla="*/ 59040 w 4038840"/>
              <a:gd name="textAreaRight" fmla="*/ 3979800 w 4038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95377" h="21600">
                <a:moveTo>
                  <a:pt x="0" y="0"/>
                </a:moveTo>
                <a:lnTo>
                  <a:pt x="95377" y="0"/>
                </a:lnTo>
                <a:lnTo>
                  <a:pt x="95377" y="21600"/>
                </a:lnTo>
                <a:lnTo>
                  <a:pt x="0" y="21600"/>
                </a:lnTo>
                <a:close/>
              </a:path>
              <a:path fill="lightenLess" w="95377" h="21600">
                <a:moveTo>
                  <a:pt x="0" y="0"/>
                </a:moveTo>
                <a:lnTo>
                  <a:pt x="95377" y="0"/>
                </a:lnTo>
                <a:lnTo>
                  <a:pt x="93977" y="1400"/>
                </a:lnTo>
                <a:lnTo>
                  <a:pt x="1400" y="1400"/>
                </a:lnTo>
                <a:close/>
              </a:path>
              <a:path fill="darken" w="95377" h="21600">
                <a:moveTo>
                  <a:pt x="95377" y="0"/>
                </a:moveTo>
                <a:lnTo>
                  <a:pt x="95377" y="21600"/>
                </a:lnTo>
                <a:lnTo>
                  <a:pt x="93977" y="20200"/>
                </a:lnTo>
                <a:lnTo>
                  <a:pt x="93977" y="1400"/>
                </a:lnTo>
                <a:close/>
              </a:path>
              <a:path fill="darkenLess" w="95377" h="21600">
                <a:moveTo>
                  <a:pt x="95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77" y="20200"/>
                </a:lnTo>
                <a:close/>
              </a:path>
              <a:path fill="lighten" w="95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Operaţii de acelaşi or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2209680" y="4191120"/>
            <a:ext cx="4038840" cy="914400"/>
          </a:xfrm>
          <a:custGeom>
            <a:avLst/>
            <a:gdLst>
              <a:gd name="textAreaLeft" fmla="*/ 59040 w 4038840"/>
              <a:gd name="textAreaRight" fmla="*/ 3979800 w 4038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95377" h="21600">
                <a:moveTo>
                  <a:pt x="0" y="0"/>
                </a:moveTo>
                <a:lnTo>
                  <a:pt x="95377" y="0"/>
                </a:lnTo>
                <a:lnTo>
                  <a:pt x="95377" y="21600"/>
                </a:lnTo>
                <a:lnTo>
                  <a:pt x="0" y="21600"/>
                </a:lnTo>
                <a:close/>
              </a:path>
              <a:path fill="lightenLess" w="95377" h="21600">
                <a:moveTo>
                  <a:pt x="0" y="0"/>
                </a:moveTo>
                <a:lnTo>
                  <a:pt x="95377" y="0"/>
                </a:lnTo>
                <a:lnTo>
                  <a:pt x="93977" y="1400"/>
                </a:lnTo>
                <a:lnTo>
                  <a:pt x="1400" y="1400"/>
                </a:lnTo>
                <a:close/>
              </a:path>
              <a:path fill="darken" w="95377" h="21600">
                <a:moveTo>
                  <a:pt x="95377" y="0"/>
                </a:moveTo>
                <a:lnTo>
                  <a:pt x="95377" y="21600"/>
                </a:lnTo>
                <a:lnTo>
                  <a:pt x="93977" y="20200"/>
                </a:lnTo>
                <a:lnTo>
                  <a:pt x="93977" y="1400"/>
                </a:lnTo>
                <a:close/>
              </a:path>
              <a:path fill="darkenLess" w="95377" h="21600">
                <a:moveTo>
                  <a:pt x="95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77" y="20200"/>
                </a:lnTo>
                <a:close/>
              </a:path>
              <a:path fill="lighten" w="95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5334120"/>
            <a:ext cx="4038840" cy="838080"/>
          </a:xfrm>
          <a:custGeom>
            <a:avLst/>
            <a:gdLst>
              <a:gd name="textAreaLeft" fmla="*/ 54000 w 4038840"/>
              <a:gd name="textAreaRight" fmla="*/ 3984840 w 4038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04058" h="21600">
                <a:moveTo>
                  <a:pt x="0" y="0"/>
                </a:moveTo>
                <a:lnTo>
                  <a:pt x="104058" y="0"/>
                </a:lnTo>
                <a:lnTo>
                  <a:pt x="104058" y="21600"/>
                </a:lnTo>
                <a:lnTo>
                  <a:pt x="0" y="21600"/>
                </a:lnTo>
                <a:close/>
              </a:path>
              <a:path fill="lightenLess" w="104058" h="21600">
                <a:moveTo>
                  <a:pt x="0" y="0"/>
                </a:moveTo>
                <a:lnTo>
                  <a:pt x="104058" y="0"/>
                </a:lnTo>
                <a:lnTo>
                  <a:pt x="102658" y="1400"/>
                </a:lnTo>
                <a:lnTo>
                  <a:pt x="1400" y="1400"/>
                </a:lnTo>
                <a:close/>
              </a:path>
              <a:path fill="darken" w="104058" h="21600">
                <a:moveTo>
                  <a:pt x="104058" y="0"/>
                </a:moveTo>
                <a:lnTo>
                  <a:pt x="104058" y="21600"/>
                </a:lnTo>
                <a:lnTo>
                  <a:pt x="102658" y="20200"/>
                </a:lnTo>
                <a:lnTo>
                  <a:pt x="102658" y="1400"/>
                </a:lnTo>
                <a:close/>
              </a:path>
              <a:path fill="darkenLess" w="104058" h="21600">
                <a:moveTo>
                  <a:pt x="104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658" y="20200"/>
                </a:lnTo>
                <a:close/>
              </a:path>
              <a:path fill="lighten" w="104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a4d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457200" y="4038480"/>
            <a:ext cx="1371600" cy="152424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524240"/>
              <a:gd name="textAreaBottom" fmla="*/ 1435320 h 152424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Less" w="21600" h="24003">
                <a:moveTo>
                  <a:pt x="5273" y="5187"/>
                </a:moveTo>
                <a:lnTo>
                  <a:pt x="12271" y="5187"/>
                </a:lnTo>
                <a:lnTo>
                  <a:pt x="16327" y="8685"/>
                </a:lnTo>
                <a:lnTo>
                  <a:pt x="16327" y="18817"/>
                </a:lnTo>
                <a:lnTo>
                  <a:pt x="5273" y="18817"/>
                </a:lnTo>
                <a:close/>
              </a:path>
              <a:path fill="darken" w="21600" h="24003">
                <a:moveTo>
                  <a:pt x="12271" y="5187"/>
                </a:moveTo>
                <a:lnTo>
                  <a:pt x="16327" y="8685"/>
                </a:lnTo>
                <a:lnTo>
                  <a:pt x="12271" y="868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0066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iş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le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4a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67820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1. Operaţii de acelaşi ordin</a:t>
            </a:r>
            <a:br>
              <a:rPr sz="3200"/>
            </a:b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 rot="1585200">
            <a:off x="2438280" y="990360"/>
            <a:ext cx="2657520" cy="24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exerciţi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304920" y="3276720"/>
            <a:ext cx="4190760" cy="533160"/>
          </a:xfrm>
          <a:custGeom>
            <a:avLst/>
            <a:gdLst>
              <a:gd name="textAreaLeft" fmla="*/ 34560 w 4190760"/>
              <a:gd name="textAreaRight" fmla="*/ 4156200 w 41907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69681" h="21600">
                <a:moveTo>
                  <a:pt x="0" y="0"/>
                </a:moveTo>
                <a:lnTo>
                  <a:pt x="169681" y="0"/>
                </a:lnTo>
                <a:lnTo>
                  <a:pt x="169681" y="21600"/>
                </a:lnTo>
                <a:lnTo>
                  <a:pt x="0" y="21600"/>
                </a:lnTo>
                <a:close/>
              </a:path>
              <a:path fill="lightenLess" w="169681" h="21600">
                <a:moveTo>
                  <a:pt x="0" y="0"/>
                </a:moveTo>
                <a:lnTo>
                  <a:pt x="169681" y="0"/>
                </a:lnTo>
                <a:lnTo>
                  <a:pt x="168281" y="1400"/>
                </a:lnTo>
                <a:lnTo>
                  <a:pt x="1400" y="1400"/>
                </a:lnTo>
                <a:close/>
              </a:path>
              <a:path fill="darken" w="169681" h="21600">
                <a:moveTo>
                  <a:pt x="169681" y="0"/>
                </a:moveTo>
                <a:lnTo>
                  <a:pt x="169681" y="21600"/>
                </a:lnTo>
                <a:lnTo>
                  <a:pt x="168281" y="20200"/>
                </a:lnTo>
                <a:lnTo>
                  <a:pt x="168281" y="1400"/>
                </a:lnTo>
                <a:close/>
              </a:path>
              <a:path fill="darkenLess" w="169681" h="21600">
                <a:moveTo>
                  <a:pt x="169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281" y="20200"/>
                </a:lnTo>
                <a:close/>
              </a:path>
              <a:path fill="lighten" w="169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)  24 548 + 8 657 – 14 36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304920" y="3886200"/>
            <a:ext cx="4190760" cy="533520"/>
          </a:xfrm>
          <a:custGeom>
            <a:avLst/>
            <a:gdLst>
              <a:gd name="textAreaLeft" fmla="*/ 34560 w 4190760"/>
              <a:gd name="textAreaRight" fmla="*/ 4156200 w 4190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69567" h="21600">
                <a:moveTo>
                  <a:pt x="0" y="0"/>
                </a:moveTo>
                <a:lnTo>
                  <a:pt x="169567" y="0"/>
                </a:lnTo>
                <a:lnTo>
                  <a:pt x="169567" y="21600"/>
                </a:lnTo>
                <a:lnTo>
                  <a:pt x="0" y="21600"/>
                </a:lnTo>
                <a:close/>
              </a:path>
              <a:path fill="lightenLess" w="169567" h="21600">
                <a:moveTo>
                  <a:pt x="0" y="0"/>
                </a:moveTo>
                <a:lnTo>
                  <a:pt x="169567" y="0"/>
                </a:lnTo>
                <a:lnTo>
                  <a:pt x="168167" y="1400"/>
                </a:lnTo>
                <a:lnTo>
                  <a:pt x="1400" y="1400"/>
                </a:lnTo>
                <a:close/>
              </a:path>
              <a:path fill="darken" w="169567" h="21600">
                <a:moveTo>
                  <a:pt x="169567" y="0"/>
                </a:moveTo>
                <a:lnTo>
                  <a:pt x="169567" y="21600"/>
                </a:lnTo>
                <a:lnTo>
                  <a:pt x="168167" y="20200"/>
                </a:lnTo>
                <a:lnTo>
                  <a:pt x="168167" y="1400"/>
                </a:lnTo>
                <a:close/>
              </a:path>
              <a:path fill="darkenLess" w="169567" h="21600">
                <a:moveTo>
                  <a:pt x="169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167" y="20200"/>
                </a:lnTo>
                <a:close/>
              </a:path>
              <a:path fill="lighten" w="169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804 507 – 362 419 + 58 55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304920" y="4495680"/>
            <a:ext cx="4190760" cy="533520"/>
          </a:xfrm>
          <a:custGeom>
            <a:avLst/>
            <a:gdLst>
              <a:gd name="textAreaLeft" fmla="*/ 34560 w 4190760"/>
              <a:gd name="textAreaRight" fmla="*/ 4156200 w 4190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69567" h="21600">
                <a:moveTo>
                  <a:pt x="0" y="0"/>
                </a:moveTo>
                <a:lnTo>
                  <a:pt x="169567" y="0"/>
                </a:lnTo>
                <a:lnTo>
                  <a:pt x="169567" y="21600"/>
                </a:lnTo>
                <a:lnTo>
                  <a:pt x="0" y="21600"/>
                </a:lnTo>
                <a:close/>
              </a:path>
              <a:path fill="lightenLess" w="169567" h="21600">
                <a:moveTo>
                  <a:pt x="0" y="0"/>
                </a:moveTo>
                <a:lnTo>
                  <a:pt x="169567" y="0"/>
                </a:lnTo>
                <a:lnTo>
                  <a:pt x="168167" y="1400"/>
                </a:lnTo>
                <a:lnTo>
                  <a:pt x="1400" y="1400"/>
                </a:lnTo>
                <a:close/>
              </a:path>
              <a:path fill="darken" w="169567" h="21600">
                <a:moveTo>
                  <a:pt x="169567" y="0"/>
                </a:moveTo>
                <a:lnTo>
                  <a:pt x="169567" y="21600"/>
                </a:lnTo>
                <a:lnTo>
                  <a:pt x="168167" y="20200"/>
                </a:lnTo>
                <a:lnTo>
                  <a:pt x="168167" y="1400"/>
                </a:lnTo>
                <a:close/>
              </a:path>
              <a:path fill="darkenLess" w="169567" h="21600">
                <a:moveTo>
                  <a:pt x="169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167" y="20200"/>
                </a:lnTo>
                <a:close/>
              </a:path>
              <a:path fill="lighten" w="169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)  2 475 + 1 525 – 3 64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304920" y="5105520"/>
            <a:ext cx="3352680" cy="53316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35751" h="21600">
                <a:moveTo>
                  <a:pt x="0" y="0"/>
                </a:moveTo>
                <a:lnTo>
                  <a:pt x="135751" y="0"/>
                </a:lnTo>
                <a:lnTo>
                  <a:pt x="135751" y="21600"/>
                </a:lnTo>
                <a:lnTo>
                  <a:pt x="0" y="21600"/>
                </a:lnTo>
                <a:close/>
              </a:path>
              <a:path fill="lightenLess" w="135751" h="21600">
                <a:moveTo>
                  <a:pt x="0" y="0"/>
                </a:moveTo>
                <a:lnTo>
                  <a:pt x="135751" y="0"/>
                </a:lnTo>
                <a:lnTo>
                  <a:pt x="134351" y="1400"/>
                </a:lnTo>
                <a:lnTo>
                  <a:pt x="1400" y="1400"/>
                </a:lnTo>
                <a:close/>
              </a:path>
              <a:path fill="darken" w="135751" h="21600">
                <a:moveTo>
                  <a:pt x="135751" y="0"/>
                </a:moveTo>
                <a:lnTo>
                  <a:pt x="135751" y="21600"/>
                </a:lnTo>
                <a:lnTo>
                  <a:pt x="134351" y="20200"/>
                </a:lnTo>
                <a:lnTo>
                  <a:pt x="134351" y="1400"/>
                </a:lnTo>
                <a:close/>
              </a:path>
              <a:path fill="darkenLess" w="135751" h="21600">
                <a:moveTo>
                  <a:pt x="135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351" y="20200"/>
                </a:lnTo>
                <a:close/>
              </a:path>
              <a:path fill="lighten" w="135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)  966 : 7 x 3 : 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304920" y="5715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)  435 x 6 : 5 : 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5105520"/>
            <a:ext cx="2057400" cy="1218960"/>
          </a:xfrm>
          <a:custGeom>
            <a:avLst/>
            <a:gdLst>
              <a:gd name="textAreaLeft" fmla="*/ 78840 w 2057400"/>
              <a:gd name="textAreaRight" fmla="*/ 1978560 w 20574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6453" h="21600">
                <a:moveTo>
                  <a:pt x="0" y="0"/>
                </a:moveTo>
                <a:lnTo>
                  <a:pt x="36453" y="0"/>
                </a:lnTo>
                <a:lnTo>
                  <a:pt x="36453" y="21600"/>
                </a:lnTo>
                <a:lnTo>
                  <a:pt x="0" y="21600"/>
                </a:lnTo>
                <a:close/>
              </a:path>
              <a:path fill="lightenLess" w="36453" h="21600">
                <a:moveTo>
                  <a:pt x="0" y="0"/>
                </a:moveTo>
                <a:lnTo>
                  <a:pt x="36453" y="0"/>
                </a:lnTo>
                <a:lnTo>
                  <a:pt x="35053" y="1400"/>
                </a:lnTo>
                <a:lnTo>
                  <a:pt x="1400" y="1400"/>
                </a:lnTo>
                <a:close/>
              </a:path>
              <a:path fill="darken" w="36453" h="21600">
                <a:moveTo>
                  <a:pt x="36453" y="0"/>
                </a:moveTo>
                <a:lnTo>
                  <a:pt x="36453" y="21600"/>
                </a:lnTo>
                <a:lnTo>
                  <a:pt x="35053" y="20200"/>
                </a:lnTo>
                <a:lnTo>
                  <a:pt x="35053" y="1400"/>
                </a:lnTo>
                <a:close/>
              </a:path>
              <a:path fill="darkenLess" w="36453" h="21600">
                <a:moveTo>
                  <a:pt x="36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53" y="20200"/>
                </a:lnTo>
                <a:close/>
              </a:path>
              <a:path fill="lighten" w="36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Al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exerciţ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5334120" y="3352680"/>
            <a:ext cx="1523880" cy="139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3:23:22Z</dcterms:created>
  <dc:creator>Sasa Paulis Lugoj</dc:creator>
  <dc:description/>
  <dc:language>en-US</dc:language>
  <cp:lastModifiedBy>THX_COMPUTERS</cp:lastModifiedBy>
  <dcterms:modified xsi:type="dcterms:W3CDTF">2007-12-28T08:46:55Z</dcterms:modified>
  <cp:revision>27</cp:revision>
  <dc:subject> matematica  IV</dc:subject>
  <dc:title>Ordinea efectuării operaţiilor</dc:title>
</cp:coreProperties>
</file>